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4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182C6-1620-4112-A91D-2D5F6010A4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5E9B8-D3FE-4BAA-B6AF-F0CA30B3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4583-89CB-4A37-AA45-489D6DAF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B21C-295A-497D-89DC-22A021094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EA9B4-9E54-4F38-B6C5-8723864A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DF888-B15E-447C-8042-35E04E59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E4384-EA18-401D-947C-808B0761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ACBE7-9DD8-4E4D-9CF2-9E39BACF4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4997-1C1B-4A81-9F49-E3A79C7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2A46A-3AE2-4C96-819F-0931861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FB66-9770-4547-91C3-0B8B117D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4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9341B-4989-4652-A537-47986D36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85120"/>
            <a:ext cx="91440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38080" y="166680"/>
            <a:ext cx="7547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728640"/>
            <a:ext cx="9144000" cy="0"/>
          </a:xfrm>
          <a:prstGeom prst="line">
            <a:avLst/>
          </a:prstGeom>
          <a:ln w="648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945120" y="6600960"/>
            <a:ext cx="1695240" cy="24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3830-A271-4810-ABD2-872335784C12}" type="datetime">
              <a:rPr b="0" lang="en-GB" sz="8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2"/>
          </p:nvPr>
        </p:nvSpPr>
        <p:spPr>
          <a:xfrm>
            <a:off x="3865680" y="6605640"/>
            <a:ext cx="137160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0E15-EBC4-4645-8887-1F78EAAD908C}" type="slidenum">
              <a:rPr b="0" lang="sv-S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83520" y="144360"/>
            <a:ext cx="1730160" cy="4460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ct val="94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198360">
              <a:lnSpc>
                <a:spcPct val="94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28600">
              <a:lnSpc>
                <a:spcPct val="94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4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4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41960" y="735120"/>
            <a:ext cx="3902040" cy="584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6000" y="824040"/>
            <a:ext cx="883764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Sistema Monitoreo Barreras Automáticas</a:t>
            </a:r>
            <a:endParaRPr b="0" lang="en-US" sz="36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6360" y="4748040"/>
            <a:ext cx="4570560" cy="1200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80000" indent="-180000">
              <a:lnSpc>
                <a:spcPct val="94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Auditoría de Eventos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0000" indent="-180000">
              <a:lnSpc>
                <a:spcPct val="94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yo - Octubre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rcRect l="0" t="7526" r="0" b="16744"/>
          <a:stretch/>
        </p:blipFill>
        <p:spPr>
          <a:xfrm>
            <a:off x="306360" y="2197080"/>
            <a:ext cx="5462640" cy="61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932CE-6EA5-4479-B5D3-75F8A63BB4F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AF025-A899-4B6E-A439-FE14149826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6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027" name=""/>
          <p:cNvGrpSpPr/>
          <p:nvPr/>
        </p:nvGrpSpPr>
        <p:grpSpPr>
          <a:xfrm>
            <a:off x="50760" y="895320"/>
            <a:ext cx="9166320" cy="5565960"/>
            <a:chOff x="50760" y="895320"/>
            <a:chExt cx="9166320" cy="5565960"/>
          </a:xfrm>
        </p:grpSpPr>
        <p:grpSp>
          <p:nvGrpSpPr>
            <p:cNvPr id="3028" name=""/>
            <p:cNvGrpSpPr/>
            <p:nvPr/>
          </p:nvGrpSpPr>
          <p:grpSpPr>
            <a:xfrm>
              <a:off x="188640" y="1235160"/>
              <a:ext cx="8244000" cy="4843440"/>
              <a:chOff x="188640" y="1235160"/>
              <a:chExt cx="8244000" cy="4843440"/>
            </a:xfrm>
          </p:grpSpPr>
          <p:sp>
            <p:nvSpPr>
              <p:cNvPr id="3029" name=""/>
              <p:cNvSpPr/>
              <p:nvPr/>
            </p:nvSpPr>
            <p:spPr>
              <a:xfrm>
                <a:off x="411120" y="1935000"/>
                <a:ext cx="802152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411120" y="602604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411120" y="551484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411120" y="50022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411120" y="44928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411120" y="39798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411120" y="34704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1120" y="29574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411120" y="24462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11120" y="1935000"/>
                <a:ext cx="802152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11120" y="1935000"/>
                <a:ext cx="802152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2552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55404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84360" y="5692680"/>
                <a:ext cx="9972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81432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942840" y="5641920"/>
                <a:ext cx="1000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1071720" y="5641920"/>
                <a:ext cx="9972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1201680" y="5565600"/>
                <a:ext cx="1000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133020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1460520" y="5411880"/>
                <a:ext cx="10008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589040" y="5411880"/>
                <a:ext cx="1015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171936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84932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978200" y="5565600"/>
                <a:ext cx="10152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2108160" y="5156280"/>
                <a:ext cx="9864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2235240" y="5361120"/>
                <a:ext cx="10152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36520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49552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624040" y="4976640"/>
                <a:ext cx="101520" cy="792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754360" y="5156280"/>
                <a:ext cx="10008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882880" y="5156280"/>
                <a:ext cx="101520" cy="61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3013200" y="5105520"/>
                <a:ext cx="9972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3143160" y="5259240"/>
                <a:ext cx="1000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327168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3400560" y="5232240"/>
                <a:ext cx="997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352908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3659040" y="5489640"/>
                <a:ext cx="10008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378936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3917880" y="5078520"/>
                <a:ext cx="10152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404820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41767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4437000" y="5538960"/>
                <a:ext cx="9864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4564080" y="5259240"/>
                <a:ext cx="10152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694400" y="5232240"/>
                <a:ext cx="997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482436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4952880" y="5462640"/>
                <a:ext cx="1018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083200" y="5538960"/>
                <a:ext cx="1000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211720" y="5489640"/>
                <a:ext cx="10152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34204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472000" y="5361120"/>
                <a:ext cx="9864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599080" y="5719680"/>
                <a:ext cx="10152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72940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8579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98788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6118200" y="5232240"/>
                <a:ext cx="10008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246720" y="5514840"/>
                <a:ext cx="10152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377040" y="4976640"/>
                <a:ext cx="100080" cy="792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50556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6635880" y="5411880"/>
                <a:ext cx="9828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6764400" y="5232240"/>
                <a:ext cx="10008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6892920" y="5284800"/>
                <a:ext cx="101520" cy="484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7023240" y="5411880"/>
                <a:ext cx="997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7151760" y="5232240"/>
                <a:ext cx="1015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7281720" y="5489640"/>
                <a:ext cx="10008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741204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754056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7670880" y="5259240"/>
                <a:ext cx="1000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7800840" y="5078520"/>
                <a:ext cx="9864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792792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80582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8186760" y="5616720"/>
                <a:ext cx="1015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8317080" y="5641920"/>
                <a:ext cx="9972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11120" y="5769000"/>
                <a:ext cx="802152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V="1">
                <a:off x="541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V="1">
                <a:off x="66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V="1">
                <a:off x="80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V="1">
                <a:off x="930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 flipV="1">
                <a:off x="1057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 flipV="1">
                <a:off x="1187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 flipV="1">
                <a:off x="1316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 flipV="1">
                <a:off x="1446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 flipV="1">
                <a:off x="1576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 flipV="1">
                <a:off x="170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 flipV="1">
                <a:off x="183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 flipV="1">
                <a:off x="196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 flipV="1">
                <a:off x="209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 flipV="1">
                <a:off x="222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 flipV="1">
                <a:off x="2351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 flipV="1">
                <a:off x="248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 flipV="1">
                <a:off x="2611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 flipV="1">
                <a:off x="273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 flipV="1">
                <a:off x="287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 flipV="1">
                <a:off x="299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V="1">
                <a:off x="312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V="1">
                <a:off x="3259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V="1">
                <a:off x="3386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V="1">
                <a:off x="351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V="1">
                <a:off x="364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V="1">
                <a:off x="377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V="1">
                <a:off x="390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V="1">
                <a:off x="403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V="1">
                <a:off x="4164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 flipV="1">
                <a:off x="429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V="1">
                <a:off x="4422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 flipV="1">
                <a:off x="455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 flipV="1">
                <a:off x="4680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 flipV="1">
                <a:off x="4809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 flipV="1">
                <a:off x="4940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 flipV="1">
                <a:off x="506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 flipV="1">
                <a:off x="519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 flipV="1">
                <a:off x="532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545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 flipV="1">
                <a:off x="558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571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 flipV="1">
                <a:off x="584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5973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 flipV="1">
                <a:off x="610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6234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 flipV="1">
                <a:off x="636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 flipV="1">
                <a:off x="6492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 flipV="1">
                <a:off x="662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 flipV="1">
                <a:off x="6750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688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7008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 flipV="1">
                <a:off x="7139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 flipV="1">
                <a:off x="726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 flipV="1">
                <a:off x="739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752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765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778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 flipV="1">
                <a:off x="791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 flipV="1">
                <a:off x="8043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 flipV="1">
                <a:off x="8174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 flipV="1">
                <a:off x="830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 flipV="1">
                <a:off x="843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 rot="16200000">
                <a:off x="568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rot="16200000">
                <a:off x="696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rot="16200000">
                <a:off x="826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 rot="16200000">
                <a:off x="957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 rot="16200000">
                <a:off x="1085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 rot="16200000">
                <a:off x="1215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 rot="16200000">
                <a:off x="1344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 rot="16200000">
                <a:off x="1474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rot="16200000">
                <a:off x="1575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 rot="16200000">
                <a:off x="1703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 rot="16200000">
                <a:off x="1833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 rot="16200000">
                <a:off x="1962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 rot="16200000">
                <a:off x="2094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 rot="16200000">
                <a:off x="2224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 rot="16200000">
                <a:off x="2352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 rot="16200000">
                <a:off x="2483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rot="16200000">
                <a:off x="2613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rot="16200000">
                <a:off x="2740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rot="16200000">
                <a:off x="2870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rot="16200000">
                <a:off x="2999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rot="16200000">
                <a:off x="312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rot="16200000">
                <a:off x="3259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rot="16200000">
                <a:off x="3387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 rot="16200000">
                <a:off x="351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 rot="16200000">
                <a:off x="364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 rot="16200000">
                <a:off x="377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rot="16200000">
                <a:off x="3905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 rot="16200000">
                <a:off x="4034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rot="16200000">
                <a:off x="4164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rot="16200000">
                <a:off x="4293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rot="16200000">
                <a:off x="4451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 rot="16200000">
                <a:off x="4581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 rot="16200000">
                <a:off x="4709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 rot="16200000">
                <a:off x="4840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 rot="16200000">
                <a:off x="4968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rot="16200000">
                <a:off x="5097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rot="16200000">
                <a:off x="5227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rot="16200000">
                <a:off x="5356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 rot="16200000">
                <a:off x="5486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 rot="16200000">
                <a:off x="558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 rot="16200000">
                <a:off x="571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rot="16200000">
                <a:off x="584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rot="16200000">
                <a:off x="5975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9" name=""/>
            <p:cNvSpPr/>
            <p:nvPr/>
          </p:nvSpPr>
          <p:spPr>
            <a:xfrm rot="16200000">
              <a:off x="610416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16200000">
              <a:off x="623448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 rot="16200000">
              <a:off x="636300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 rot="16200000">
              <a:off x="649332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rot="16200000">
              <a:off x="662184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 rot="16200000">
              <a:off x="675216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rot="16200000">
              <a:off x="688212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 rot="16200000">
              <a:off x="7010640" y="58208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rot="16200000">
              <a:off x="7140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 rot="16200000">
              <a:off x="72680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rot="16200000">
              <a:off x="739800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 rot="16200000">
              <a:off x="752832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rot="16200000">
              <a:off x="76568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 rot="16200000">
              <a:off x="77871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rot="16200000">
              <a:off x="791568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 rot="16200000">
              <a:off x="80456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rot="16200000">
              <a:off x="8175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rot="16200000">
              <a:off x="830448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41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66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80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930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057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1187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1316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1446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1576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1704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83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96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093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22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2351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248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2611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273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287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998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129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259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3386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351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364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3774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90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03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4164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429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455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4680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4809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4940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5068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5199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532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545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558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571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84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973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6103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6234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6362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6492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62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750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6880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008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139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26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39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52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65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78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91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8043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8174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830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41056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639324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84326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44226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8534520" y="3981600"/>
              <a:ext cx="68256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85708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8681040" y="4005360"/>
              <a:ext cx="5144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416412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21056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443480" y="6297480"/>
              <a:ext cx="2332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48992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8534520" y="3790800"/>
              <a:ext cx="68256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85838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7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CA70-CB8A-4E37-8983-05A9ACA988D3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36EE95-ADBF-4F45-8334-D55CEF4771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8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29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0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A2181-8A43-4AAF-A820-C2E39D0DBCAF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78F53-9FC6-43E4-B324-1C0F83E71D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1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2" name="" descr=""/>
          <p:cNvPicPr/>
          <p:nvPr/>
        </p:nvPicPr>
        <p:blipFill>
          <a:blip r:embed="rId2"/>
          <a:stretch/>
        </p:blipFill>
        <p:spPr>
          <a:xfrm>
            <a:off x="-16344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3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CD3F1-CC36-4590-94B2-2AB07E34F27C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40C02-56CA-4725-AE6B-B3A10BA8BD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4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5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6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F17F-BC8D-4317-8CD7-37DBE7A0841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9B711D-BEEF-4CE1-AB95-F1A5DE913C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7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338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33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33BE-81C1-44FC-A02B-A2971B167E07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2E0A5-C6FB-41EB-A7D1-CFA6AFEE71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341" name=""/>
          <p:cNvGrpSpPr/>
          <p:nvPr/>
        </p:nvGrpSpPr>
        <p:grpSpPr>
          <a:xfrm>
            <a:off x="50760" y="895320"/>
            <a:ext cx="9167760" cy="5565960"/>
            <a:chOff x="50760" y="895320"/>
            <a:chExt cx="9167760" cy="5565960"/>
          </a:xfrm>
        </p:grpSpPr>
        <p:grpSp>
          <p:nvGrpSpPr>
            <p:cNvPr id="3342" name=""/>
            <p:cNvGrpSpPr/>
            <p:nvPr/>
          </p:nvGrpSpPr>
          <p:grpSpPr>
            <a:xfrm>
              <a:off x="188640" y="1235160"/>
              <a:ext cx="7899840" cy="4843440"/>
              <a:chOff x="188640" y="1235160"/>
              <a:chExt cx="7899840" cy="4843440"/>
            </a:xfrm>
          </p:grpSpPr>
          <p:sp>
            <p:nvSpPr>
              <p:cNvPr id="3343" name=""/>
              <p:cNvSpPr/>
              <p:nvPr/>
            </p:nvSpPr>
            <p:spPr>
              <a:xfrm>
                <a:off x="411120" y="1935000"/>
                <a:ext cx="767736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>
                <a:off x="411120" y="602604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411120" y="551484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11120" y="50022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411120" y="44928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411120" y="39798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411120" y="34704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411120" y="29574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411120" y="24462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411120" y="1935000"/>
                <a:ext cx="76773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411120" y="1935000"/>
                <a:ext cx="767736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01652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5997600" y="5719680"/>
                <a:ext cx="9360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6121440" y="5719680"/>
                <a:ext cx="9360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6243480" y="4184640"/>
                <a:ext cx="96840" cy="1584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6369120" y="3086280"/>
                <a:ext cx="95040" cy="2682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6492960" y="5538960"/>
                <a:ext cx="9360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661680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698832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234200" y="5719680"/>
                <a:ext cx="9684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411120" y="5769000"/>
                <a:ext cx="76773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 flipV="1">
                <a:off x="534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 flipV="1">
                <a:off x="658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 flipV="1">
                <a:off x="78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 flipV="1">
                <a:off x="90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 flipV="1">
                <a:off x="103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 flipV="1">
                <a:off x="1154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 flipV="1">
                <a:off x="1278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 flipV="1">
                <a:off x="140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 flipV="1">
                <a:off x="1525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 flipV="1">
                <a:off x="1649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 flipV="1">
                <a:off x="1773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 flipV="1">
                <a:off x="1897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 flipV="1">
                <a:off x="202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 flipV="1">
                <a:off x="2144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 flipV="1">
                <a:off x="227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 flipV="1">
                <a:off x="239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2516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263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 flipV="1">
                <a:off x="276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 flipV="1">
                <a:off x="2887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 flipV="1">
                <a:off x="3011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313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326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338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 flipV="1">
                <a:off x="350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 flipV="1">
                <a:off x="363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 flipV="1">
                <a:off x="375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 flipV="1">
                <a:off x="387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 flipV="1">
                <a:off x="400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 flipV="1">
                <a:off x="4125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 flipV="1">
                <a:off x="4251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 flipV="1">
                <a:off x="4373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 flipV="1">
                <a:off x="4497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 flipV="1">
                <a:off x="4621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 flipV="1">
                <a:off x="4745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 flipV="1">
                <a:off x="4869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 flipV="1">
                <a:off x="4992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V="1">
                <a:off x="5116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 flipV="1">
                <a:off x="524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 flipV="1">
                <a:off x="536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5487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5611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573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 flipV="1">
                <a:off x="5859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 flipV="1">
                <a:off x="5983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V="1">
                <a:off x="6107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 flipV="1">
                <a:off x="623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 flipV="1">
                <a:off x="635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 flipV="1">
                <a:off x="6478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 flipV="1">
                <a:off x="6602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 flipV="1">
                <a:off x="672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 flipV="1">
                <a:off x="6850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 flipV="1">
                <a:off x="6973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 flipV="1">
                <a:off x="7097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 flipV="1">
                <a:off x="722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 flipV="1">
                <a:off x="7345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 flipV="1">
                <a:off x="7469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 flipV="1">
                <a:off x="7593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 flipV="1">
                <a:off x="7716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 flipV="1">
                <a:off x="7840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 flipV="1">
                <a:off x="7964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 flipV="1">
                <a:off x="8088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4681440" y="1235160"/>
                <a:ext cx="180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 rot="16200000">
                <a:off x="436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 rot="16200000">
                <a:off x="560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 rot="16200000">
                <a:off x="684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 rot="16200000">
                <a:off x="807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 rot="16200000">
                <a:off x="931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 rot="16200000">
                <a:off x="1055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 rot="16200000">
                <a:off x="1179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 rot="16200000">
                <a:off x="1303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 rot="16200000">
                <a:off x="1427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 rot="16200000">
                <a:off x="1522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 rot="16200000">
                <a:off x="1646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rot="16200000">
                <a:off x="1770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rot="16200000">
                <a:off x="1894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 rot="16200000">
                <a:off x="2019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 rot="16200000">
                <a:off x="2143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 rot="16200000">
                <a:off x="2267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rot="16200000">
                <a:off x="238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rot="16200000">
                <a:off x="2514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rot="16200000">
                <a:off x="2638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rot="16200000">
                <a:off x="2762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rot="16200000">
                <a:off x="2884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 rot="16200000">
                <a:off x="3010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 rot="16200000">
                <a:off x="3134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 rot="16200000">
                <a:off x="325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 rot="16200000">
                <a:off x="3380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 rot="16200000">
                <a:off x="350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 rot="16200000">
                <a:off x="362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 rot="16200000">
                <a:off x="3753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 rot="16200000">
                <a:off x="387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 rot="16200000">
                <a:off x="400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 rot="16200000">
                <a:off x="4124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 rot="16200000">
                <a:off x="4276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 rot="16200000">
                <a:off x="4398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 rot="16200000">
                <a:off x="4524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 rot="16200000">
                <a:off x="4647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 rot="16200000">
                <a:off x="4771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 rot="16200000">
                <a:off x="4894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 rot="16200000">
                <a:off x="50194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 rot="16200000">
                <a:off x="5143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 rot="16200000">
                <a:off x="5267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 rot="16200000">
                <a:off x="5361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rot="16200000">
                <a:off x="5486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rot="16200000">
                <a:off x="5610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 rot="16200000">
                <a:off x="5734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rot="16200000">
                <a:off x="5855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rot="16200000">
                <a:off x="5982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rot="16200000">
                <a:off x="6105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rot="16200000">
                <a:off x="622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rot="16200000">
                <a:off x="6351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rot="16200000">
                <a:off x="647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 rot="16200000">
                <a:off x="6601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rot="16200000">
                <a:off x="6725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rot="16200000">
                <a:off x="6847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rot="16200000">
                <a:off x="697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rot="16200000">
                <a:off x="70963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rot="16200000">
                <a:off x="72201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rot="16200000">
                <a:off x="7342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rot="16200000">
                <a:off x="7466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rot="16200000">
                <a:off x="75916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rot="16200000">
                <a:off x="7715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rot="16200000">
                <a:off x="78393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rot="16200000">
                <a:off x="7961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349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658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782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906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1030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1154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1278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1401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1525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1649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17733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1897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2021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2144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2270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2392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2516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2639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2765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28875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3011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313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326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382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350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363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3755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3878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4002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41259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4373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4497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4621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4745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3" name=""/>
            <p:cNvSpPr/>
            <p:nvPr/>
          </p:nvSpPr>
          <p:spPr>
            <a:xfrm>
              <a:off x="4869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992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5116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5240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536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5487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611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735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859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983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107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6230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354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478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602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6726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850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6973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097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22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345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469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593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716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840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964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3248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1362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80884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4251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8191440" y="3981600"/>
              <a:ext cx="102708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822816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8337600" y="4005360"/>
              <a:ext cx="860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-Gral. Rodriguez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3990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40392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4270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43185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8191440" y="3790800"/>
              <a:ext cx="102708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824076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0F89F-B22D-429C-B3A1-70464F5B955E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45ED1-A04C-4FE4-BEC4-A8FB153923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591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592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9A6EF-876D-4CAF-A8D9-E867F89FA8C3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88956-910B-45E1-BEAE-85C1E59DB0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594" name=""/>
          <p:cNvGrpSpPr/>
          <p:nvPr/>
        </p:nvGrpSpPr>
        <p:grpSpPr>
          <a:xfrm>
            <a:off x="50760" y="895320"/>
            <a:ext cx="9166320" cy="5565960"/>
            <a:chOff x="50760" y="895320"/>
            <a:chExt cx="9166320" cy="5565960"/>
          </a:xfrm>
        </p:grpSpPr>
        <p:grpSp>
          <p:nvGrpSpPr>
            <p:cNvPr id="3595" name=""/>
            <p:cNvGrpSpPr/>
            <p:nvPr/>
          </p:nvGrpSpPr>
          <p:grpSpPr>
            <a:xfrm>
              <a:off x="188640" y="1235160"/>
              <a:ext cx="8144280" cy="4843440"/>
              <a:chOff x="188640" y="1235160"/>
              <a:chExt cx="8144280" cy="4843440"/>
            </a:xfrm>
          </p:grpSpPr>
          <p:sp>
            <p:nvSpPr>
              <p:cNvPr id="3596" name=""/>
              <p:cNvSpPr/>
              <p:nvPr/>
            </p:nvSpPr>
            <p:spPr>
              <a:xfrm>
                <a:off x="411120" y="1935000"/>
                <a:ext cx="792180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411120" y="602604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411120" y="551484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411120" y="50022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11120" y="44928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11120" y="39798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11120" y="34704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411120" y="29574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411120" y="24462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411120" y="1935000"/>
                <a:ext cx="7921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411120" y="1935000"/>
                <a:ext cx="792180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31904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1447920" y="5692680"/>
                <a:ext cx="9684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15746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17017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361944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3746520" y="5719680"/>
                <a:ext cx="982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387360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4002120" y="5335560"/>
                <a:ext cx="982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130640" y="5105520"/>
                <a:ext cx="9864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4386240" y="5105520"/>
                <a:ext cx="9684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4513320" y="5130720"/>
                <a:ext cx="98280" cy="638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4640400" y="5538960"/>
                <a:ext cx="9972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47689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4897440" y="5616720"/>
                <a:ext cx="982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5024520" y="5105520"/>
                <a:ext cx="9828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515160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5918040" y="5565600"/>
                <a:ext cx="9864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604512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617364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6302520" y="5259240"/>
                <a:ext cx="982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6429240" y="5232240"/>
                <a:ext cx="9864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6556320" y="54626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6684840" y="5692680"/>
                <a:ext cx="9864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7578720" y="5207040"/>
                <a:ext cx="10008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7707240" y="5207040"/>
                <a:ext cx="98640" cy="5619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82184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411120" y="5769000"/>
                <a:ext cx="7921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 flipV="1">
                <a:off x="7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 flipV="1">
                <a:off x="92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 flipV="1">
                <a:off x="10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 flipV="1">
                <a:off x="11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 flipV="1">
                <a:off x="1306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2" name=""/>
              <p:cNvSpPr/>
              <p:nvPr/>
            </p:nvSpPr>
            <p:spPr>
              <a:xfrm flipV="1">
                <a:off x="143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3" name=""/>
              <p:cNvSpPr/>
              <p:nvPr/>
            </p:nvSpPr>
            <p:spPr>
              <a:xfrm flipV="1">
                <a:off x="15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"/>
              <p:cNvSpPr/>
              <p:nvPr/>
            </p:nvSpPr>
            <p:spPr>
              <a:xfrm flipV="1">
                <a:off x="168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V="1">
                <a:off x="18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V="1">
                <a:off x="194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V="1">
                <a:off x="2073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2200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3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245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V="1">
                <a:off x="2583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V="1">
                <a:off x="2711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V="1">
                <a:off x="2840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V="1">
                <a:off x="296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V="1">
                <a:off x="3094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V="1">
                <a:off x="3222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V="1">
                <a:off x="3349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V="1">
                <a:off x="3478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V="1">
                <a:off x="3605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V="1">
                <a:off x="373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V="1">
                <a:off x="386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V="1">
                <a:off x="3987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V="1">
                <a:off x="411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V="1">
                <a:off x="4245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437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4498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4627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V="1">
                <a:off x="4754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V="1">
                <a:off x="488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V="1">
                <a:off x="5011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V="1">
                <a:off x="5137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V="1">
                <a:off x="5265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V="1">
                <a:off x="539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V="1">
                <a:off x="5521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V="1">
                <a:off x="5649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V="1">
                <a:off x="5778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V="1">
                <a:off x="590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 flipV="1">
                <a:off x="6032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 flipV="1">
                <a:off x="616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 flipV="1">
                <a:off x="6288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 flipV="1">
                <a:off x="6416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 flipV="1">
                <a:off x="6541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 flipV="1">
                <a:off x="6670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 flipV="1">
                <a:off x="6799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 flipV="1">
                <a:off x="6926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 flipV="1">
                <a:off x="7054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 flipV="1">
                <a:off x="7183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 flipV="1">
                <a:off x="7308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 flipV="1">
                <a:off x="7437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7566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7693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782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3" name=""/>
              <p:cNvSpPr/>
              <p:nvPr/>
            </p:nvSpPr>
            <p:spPr>
              <a:xfrm flipV="1">
                <a:off x="7950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 flipV="1">
                <a:off x="8075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 flipV="1">
                <a:off x="8204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833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 rot="16200000">
                <a:off x="820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 rot="16200000">
                <a:off x="949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 rot="16200000">
                <a:off x="1076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 rot="16200000">
                <a:off x="120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 rot="16200000">
                <a:off x="1333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 rot="16200000">
                <a:off x="1458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 rot="16200000">
                <a:off x="1559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 rot="16200000">
                <a:off x="168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 rot="16200000">
                <a:off x="1814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rot="16200000">
                <a:off x="1943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 rot="16200000">
                <a:off x="2073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rot="16200000">
                <a:off x="2198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rot="16200000">
                <a:off x="232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rot="16200000">
                <a:off x="2456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rot="16200000">
                <a:off x="2583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rot="16200000">
                <a:off x="2711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rot="16200000">
                <a:off x="2840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rot="16200000">
                <a:off x="296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rot="16200000">
                <a:off x="3094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rot="16200000">
                <a:off x="3223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rot="16200000">
                <a:off x="3350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rot="16200000">
                <a:off x="3478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rot="16200000">
                <a:off x="360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rot="16200000">
                <a:off x="3732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rot="16200000">
                <a:off x="3861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rot="16200000">
                <a:off x="3988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rot="16200000">
                <a:off x="4116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rot="16200000">
                <a:off x="4245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rot="16200000">
                <a:off x="4398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rot="16200000">
                <a:off x="4527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rot="16200000">
                <a:off x="4655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rot="16200000">
                <a:off x="4782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rot="16200000">
                <a:off x="49114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rot="16200000">
                <a:off x="5040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rot="16200000">
                <a:off x="5165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 rot="16200000">
                <a:off x="5294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 rot="16200000">
                <a:off x="5422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 rot="16200000">
                <a:off x="5521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 rot="16200000">
                <a:off x="5650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 rot="16200000">
                <a:off x="5777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 rot="16200000">
                <a:off x="5904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 rot="16200000">
                <a:off x="6032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 rot="16200000">
                <a:off x="6161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 rot="16200000">
                <a:off x="6288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 rot="16200000">
                <a:off x="6417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 rot="16200000">
                <a:off x="6542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 rot="16200000">
                <a:off x="6671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 rot="16200000">
                <a:off x="679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 rot="16200000">
                <a:off x="6926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 rot="16200000">
                <a:off x="70552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 rot="16200000">
                <a:off x="7183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 rot="16200000">
                <a:off x="73090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 rot="16200000">
                <a:off x="74379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 rot="16200000">
                <a:off x="75664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 rot="16200000">
                <a:off x="7693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 rot="16200000">
                <a:off x="78220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 rot="16200000">
                <a:off x="7948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 rot="16200000">
                <a:off x="80758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 rot="16200000">
                <a:off x="8204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7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922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10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11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13064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1433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56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89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816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944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73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200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327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2455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2583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6" name=""/>
            <p:cNvSpPr/>
            <p:nvPr/>
          </p:nvSpPr>
          <p:spPr>
            <a:xfrm>
              <a:off x="2711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840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96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94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3222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3349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478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3605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3732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86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3987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4116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245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498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4627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4754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488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011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137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265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39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521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649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5778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90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6032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6161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6288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416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6541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670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799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926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7054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7183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7308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7437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7566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7693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782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7950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8075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8204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238500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31872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8332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3718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8432640" y="3981600"/>
              <a:ext cx="78444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8469360" y="4030560"/>
              <a:ext cx="601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8579160" y="4005360"/>
              <a:ext cx="6163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9-Corrien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11336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41612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439272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4391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8432640" y="3790800"/>
              <a:ext cx="784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848052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B8A6A-B83A-4D42-A869-A1A8C0BFE60A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A9D68-7853-448D-BBD0-D0CD9F9706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3861" name=""/>
          <p:cNvGrpSpPr/>
          <p:nvPr/>
        </p:nvGrpSpPr>
        <p:grpSpPr>
          <a:xfrm>
            <a:off x="-112680" y="895320"/>
            <a:ext cx="9167400" cy="5565960"/>
            <a:chOff x="-112680" y="895320"/>
            <a:chExt cx="9167400" cy="5565960"/>
          </a:xfrm>
        </p:grpSpPr>
        <p:grpSp>
          <p:nvGrpSpPr>
            <p:cNvPr id="3862" name=""/>
            <p:cNvGrpSpPr/>
            <p:nvPr/>
          </p:nvGrpSpPr>
          <p:grpSpPr>
            <a:xfrm>
              <a:off x="25200" y="1235160"/>
              <a:ext cx="8280720" cy="4843440"/>
              <a:chOff x="25200" y="1235160"/>
              <a:chExt cx="8280720" cy="4843440"/>
            </a:xfrm>
          </p:grpSpPr>
          <p:sp>
            <p:nvSpPr>
              <p:cNvPr id="3863" name=""/>
              <p:cNvSpPr/>
              <p:nvPr/>
            </p:nvSpPr>
            <p:spPr>
              <a:xfrm>
                <a:off x="247680" y="1935000"/>
                <a:ext cx="805824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247680" y="602604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247680" y="551484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247680" y="50022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247680" y="44928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247680" y="39798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247680" y="34704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247680" y="29574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247680" y="24462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247680" y="1935000"/>
                <a:ext cx="80582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247680" y="1935000"/>
                <a:ext cx="805824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26352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392040" y="5616720"/>
                <a:ext cx="1015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52380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654120" y="5437080"/>
                <a:ext cx="982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7826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91296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10429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117324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130320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1432080" y="5105520"/>
                <a:ext cx="101520" cy="663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1563840" y="4824360"/>
                <a:ext cx="98280" cy="944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1692360" y="5616720"/>
                <a:ext cx="1000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1822320" y="5565600"/>
                <a:ext cx="1000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1954080" y="5489640"/>
                <a:ext cx="9864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2082960" y="5411880"/>
                <a:ext cx="99720" cy="357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2212920" y="5514840"/>
                <a:ext cx="9864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2341440" y="5667480"/>
                <a:ext cx="1018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2732040" y="4440240"/>
                <a:ext cx="98640" cy="1328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2862360" y="4056120"/>
                <a:ext cx="100080" cy="1712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29923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312264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3513240" y="5719680"/>
                <a:ext cx="982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3641760" y="5719680"/>
                <a:ext cx="1000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3902040" y="5719680"/>
                <a:ext cx="10008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4681440" y="5641920"/>
                <a:ext cx="1000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494172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5200560" y="5232240"/>
                <a:ext cx="10152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5332320" y="4925880"/>
                <a:ext cx="98640" cy="8431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462640" y="5514840"/>
                <a:ext cx="982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3" name=""/>
              <p:cNvSpPr/>
              <p:nvPr/>
            </p:nvSpPr>
            <p:spPr>
              <a:xfrm>
                <a:off x="57229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5851440" y="5386320"/>
                <a:ext cx="10008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5" name=""/>
              <p:cNvSpPr/>
              <p:nvPr/>
            </p:nvSpPr>
            <p:spPr>
              <a:xfrm>
                <a:off x="611172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6" name=""/>
              <p:cNvSpPr/>
              <p:nvPr/>
            </p:nvSpPr>
            <p:spPr>
              <a:xfrm>
                <a:off x="6242040" y="5565600"/>
                <a:ext cx="982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6372360" y="5462640"/>
                <a:ext cx="982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8" name=""/>
              <p:cNvSpPr/>
              <p:nvPr/>
            </p:nvSpPr>
            <p:spPr>
              <a:xfrm>
                <a:off x="6500880" y="5361120"/>
                <a:ext cx="10008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"/>
              <p:cNvSpPr/>
              <p:nvPr/>
            </p:nvSpPr>
            <p:spPr>
              <a:xfrm>
                <a:off x="6630840" y="5437080"/>
                <a:ext cx="1000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6761160" y="5514840"/>
                <a:ext cx="100080" cy="254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1" name=""/>
              <p:cNvSpPr/>
              <p:nvPr/>
            </p:nvSpPr>
            <p:spPr>
              <a:xfrm>
                <a:off x="689148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2" name=""/>
              <p:cNvSpPr/>
              <p:nvPr/>
            </p:nvSpPr>
            <p:spPr>
              <a:xfrm>
                <a:off x="715176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3" name=""/>
              <p:cNvSpPr/>
              <p:nvPr/>
            </p:nvSpPr>
            <p:spPr>
              <a:xfrm>
                <a:off x="7281720" y="5591160"/>
                <a:ext cx="9864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4" name=""/>
              <p:cNvSpPr/>
              <p:nvPr/>
            </p:nvSpPr>
            <p:spPr>
              <a:xfrm>
                <a:off x="7540560" y="5308560"/>
                <a:ext cx="100080" cy="460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>
                <a:off x="7672320" y="5565600"/>
                <a:ext cx="9864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6" name=""/>
              <p:cNvSpPr/>
              <p:nvPr/>
            </p:nvSpPr>
            <p:spPr>
              <a:xfrm>
                <a:off x="7800840" y="5667480"/>
                <a:ext cx="1000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7" name=""/>
              <p:cNvSpPr/>
              <p:nvPr/>
            </p:nvSpPr>
            <p:spPr>
              <a:xfrm>
                <a:off x="7931160" y="5437080"/>
                <a:ext cx="9828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"/>
              <p:cNvSpPr/>
              <p:nvPr/>
            </p:nvSpPr>
            <p:spPr>
              <a:xfrm>
                <a:off x="8059680" y="5386320"/>
                <a:ext cx="101520" cy="382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9" name=""/>
              <p:cNvSpPr/>
              <p:nvPr/>
            </p:nvSpPr>
            <p:spPr>
              <a:xfrm>
                <a:off x="8191440" y="5641920"/>
                <a:ext cx="9864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0" name=""/>
              <p:cNvSpPr/>
              <p:nvPr/>
            </p:nvSpPr>
            <p:spPr>
              <a:xfrm>
                <a:off x="24768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1" name=""/>
              <p:cNvSpPr/>
              <p:nvPr/>
            </p:nvSpPr>
            <p:spPr>
              <a:xfrm>
                <a:off x="21744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2" name=""/>
              <p:cNvSpPr/>
              <p:nvPr/>
            </p:nvSpPr>
            <p:spPr>
              <a:xfrm>
                <a:off x="21744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3" name=""/>
              <p:cNvSpPr/>
              <p:nvPr/>
            </p:nvSpPr>
            <p:spPr>
              <a:xfrm>
                <a:off x="21744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4" name=""/>
              <p:cNvSpPr/>
              <p:nvPr/>
            </p:nvSpPr>
            <p:spPr>
              <a:xfrm>
                <a:off x="21744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5" name=""/>
              <p:cNvSpPr/>
              <p:nvPr/>
            </p:nvSpPr>
            <p:spPr>
              <a:xfrm>
                <a:off x="21744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6" name=""/>
              <p:cNvSpPr/>
              <p:nvPr/>
            </p:nvSpPr>
            <p:spPr>
              <a:xfrm>
                <a:off x="21744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7" name=""/>
              <p:cNvSpPr/>
              <p:nvPr/>
            </p:nvSpPr>
            <p:spPr>
              <a:xfrm>
                <a:off x="21744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8" name=""/>
              <p:cNvSpPr/>
              <p:nvPr/>
            </p:nvSpPr>
            <p:spPr>
              <a:xfrm>
                <a:off x="21744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9" name=""/>
              <p:cNvSpPr/>
              <p:nvPr/>
            </p:nvSpPr>
            <p:spPr>
              <a:xfrm>
                <a:off x="21744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0" name=""/>
              <p:cNvSpPr/>
              <p:nvPr/>
            </p:nvSpPr>
            <p:spPr>
              <a:xfrm>
                <a:off x="247680" y="5769000"/>
                <a:ext cx="8058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 flipV="1">
                <a:off x="24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 flipV="1">
                <a:off x="378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 flipV="1">
                <a:off x="50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 flipV="1">
                <a:off x="63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5" name=""/>
              <p:cNvSpPr/>
              <p:nvPr/>
            </p:nvSpPr>
            <p:spPr>
              <a:xfrm flipV="1">
                <a:off x="76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6" name=""/>
              <p:cNvSpPr/>
              <p:nvPr/>
            </p:nvSpPr>
            <p:spPr>
              <a:xfrm flipV="1">
                <a:off x="89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 flipV="1">
                <a:off x="102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 flipV="1">
                <a:off x="115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 flipV="1">
                <a:off x="128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 flipV="1">
                <a:off x="141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1" name=""/>
              <p:cNvSpPr/>
              <p:nvPr/>
            </p:nvSpPr>
            <p:spPr>
              <a:xfrm flipV="1">
                <a:off x="154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2" name=""/>
              <p:cNvSpPr/>
              <p:nvPr/>
            </p:nvSpPr>
            <p:spPr>
              <a:xfrm flipV="1">
                <a:off x="1677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 flipV="1">
                <a:off x="180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 flipV="1">
                <a:off x="193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 flipV="1">
                <a:off x="2068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 flipV="1">
                <a:off x="219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7" name=""/>
              <p:cNvSpPr/>
              <p:nvPr/>
            </p:nvSpPr>
            <p:spPr>
              <a:xfrm flipV="1">
                <a:off x="23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8" name=""/>
              <p:cNvSpPr/>
              <p:nvPr/>
            </p:nvSpPr>
            <p:spPr>
              <a:xfrm flipV="1">
                <a:off x="245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 flipV="1">
                <a:off x="258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 flipV="1">
                <a:off x="27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 flipV="1">
                <a:off x="284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 flipV="1">
                <a:off x="2978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"/>
              <p:cNvSpPr/>
              <p:nvPr/>
            </p:nvSpPr>
            <p:spPr>
              <a:xfrm flipV="1">
                <a:off x="310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"/>
              <p:cNvSpPr/>
              <p:nvPr/>
            </p:nvSpPr>
            <p:spPr>
              <a:xfrm flipV="1">
                <a:off x="32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 flipV="1">
                <a:off x="336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 flipV="1">
                <a:off x="349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 flipV="1">
                <a:off x="362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 flipV="1">
                <a:off x="375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"/>
              <p:cNvSpPr/>
              <p:nvPr/>
            </p:nvSpPr>
            <p:spPr>
              <a:xfrm flipV="1">
                <a:off x="388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"/>
              <p:cNvSpPr/>
              <p:nvPr/>
            </p:nvSpPr>
            <p:spPr>
              <a:xfrm flipV="1">
                <a:off x="401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flipV="1">
                <a:off x="414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 flipV="1">
                <a:off x="427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 flipV="1">
                <a:off x="440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V="1">
                <a:off x="453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V="1">
                <a:off x="466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479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492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505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518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531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544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557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 flipV="1">
                <a:off x="5707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 flipV="1">
                <a:off x="583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596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 flipV="1">
                <a:off x="609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 flipV="1">
                <a:off x="622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635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 flipV="1">
                <a:off x="648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 flipV="1">
                <a:off x="661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 flipV="1">
                <a:off x="674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 flipV="1">
                <a:off x="6875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 flipV="1">
                <a:off x="700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7137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7265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739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 flipV="1">
                <a:off x="752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 flipV="1">
                <a:off x="7656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 flipV="1">
                <a:off x="778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 flipV="1">
                <a:off x="791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 flipV="1">
                <a:off x="804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 flipV="1">
                <a:off x="8175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 flipV="1">
                <a:off x="830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4518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4788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8136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8136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8136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8136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8136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520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520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520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 rot="16200000">
                <a:off x="276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 rot="16200000">
                <a:off x="406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 rot="16200000">
                <a:off x="534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 rot="16200000">
                <a:off x="66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 rot="16200000">
                <a:off x="79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 rot="16200000">
                <a:off x="925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 rot="16200000">
                <a:off x="1055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 rot="16200000">
                <a:off x="1185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 rot="16200000">
                <a:off x="1315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 rot="16200000">
                <a:off x="141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 rot="16200000">
                <a:off x="154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 rot="16200000">
                <a:off x="167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 rot="16200000">
                <a:off x="1806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 rot="16200000">
                <a:off x="193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 rot="16200000">
                <a:off x="2068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 rot="16200000">
                <a:off x="2198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 rot="16200000">
                <a:off x="23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 rot="16200000">
                <a:off x="2457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 rot="16200000">
                <a:off x="258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 rot="16200000">
                <a:off x="271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 rot="16200000">
                <a:off x="28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 rot="16200000">
                <a:off x="297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 rot="16200000">
                <a:off x="310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 rot="16200000">
                <a:off x="3238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 rot="16200000">
                <a:off x="336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 rot="16200000">
                <a:off x="349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 rot="16200000">
                <a:off x="362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 rot="16200000">
                <a:off x="375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 rot="16200000">
                <a:off x="38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 rot="16200000">
                <a:off x="401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 rot="16200000">
                <a:off x="414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 rot="16200000">
                <a:off x="430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 rot="16200000">
                <a:off x="4435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 rot="16200000">
                <a:off x="4566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 rot="16200000">
                <a:off x="4695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 rot="16200000">
                <a:off x="4825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 rot="16200000">
                <a:off x="4957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 rot="16200000">
                <a:off x="5086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 rot="16200000">
                <a:off x="5216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 rot="16200000">
                <a:off x="5344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 rot="16200000">
                <a:off x="54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 rot="16200000">
                <a:off x="557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 rot="16200000">
                <a:off x="570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 rot="16200000">
                <a:off x="5835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 rot="16200000">
                <a:off x="5967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 rot="16200000">
                <a:off x="609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 rot="16200000">
                <a:off x="622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 rot="16200000">
                <a:off x="635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 rot="16200000">
                <a:off x="6488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 rot="16200000">
                <a:off x="661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 rot="16200000">
                <a:off x="6747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 rot="16200000">
                <a:off x="6877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 rot="16200000">
                <a:off x="700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 rot="16200000">
                <a:off x="7137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 rot="16200000">
                <a:off x="72662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 rot="16200000">
                <a:off x="73980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 rot="16200000">
                <a:off x="7526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 rot="16200000">
                <a:off x="76568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 rot="16200000">
                <a:off x="7788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3" name=""/>
            <p:cNvSpPr/>
            <p:nvPr/>
          </p:nvSpPr>
          <p:spPr>
            <a:xfrm rot="16200000">
              <a:off x="791712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 rot="16200000">
              <a:off x="804744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rot="16200000">
              <a:off x="8175960" y="581904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78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0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38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768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89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1028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115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128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41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154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1677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80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1938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2068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19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32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245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258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271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84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2978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310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323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336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349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62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375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3887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401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414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40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453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466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479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4927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05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8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31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44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57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707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837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965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609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22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356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48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6615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746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6875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700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7137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7265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739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7524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7656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7786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7915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8045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8175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22564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2568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2476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8305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278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8407440" y="3981600"/>
              <a:ext cx="6462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844380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8554680" y="4005360"/>
              <a:ext cx="4183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0-Pard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-6696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24768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29628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017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0662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297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3455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8407440" y="3790800"/>
              <a:ext cx="64620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45676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4654-DF44-48A4-8EC9-5156AD697DF8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69B85-2C12-4BD8-BC3A-1B6E09B65E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7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4148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4149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CFF02-B26A-4220-A7BC-B65C3448D3C7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F7D54-47E9-476B-9648-1B95B72719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Mayo-Juni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-112680" y="895320"/>
            <a:ext cx="9191880" cy="5565960"/>
            <a:chOff x="-112680" y="895320"/>
            <a:chExt cx="9191880" cy="5565960"/>
          </a:xfrm>
        </p:grpSpPr>
        <p:grpSp>
          <p:nvGrpSpPr>
            <p:cNvPr id="51" name=""/>
            <p:cNvGrpSpPr/>
            <p:nvPr/>
          </p:nvGrpSpPr>
          <p:grpSpPr>
            <a:xfrm>
              <a:off x="247680" y="1498680"/>
              <a:ext cx="7948440" cy="4257720"/>
              <a:chOff x="247680" y="1498680"/>
              <a:chExt cx="7948440" cy="4257720"/>
            </a:xfrm>
          </p:grpSpPr>
          <p:sp>
            <p:nvSpPr>
              <p:cNvPr id="52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47680" y="490392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47680" y="40528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7680" y="320184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7680" y="235116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7680" y="14986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63520" y="5721480"/>
                <a:ext cx="982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14400" y="5653080"/>
                <a:ext cx="100080" cy="103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044720" y="5567400"/>
                <a:ext cx="99720" cy="189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174680" y="5584680"/>
                <a:ext cx="10008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305000" y="5686560"/>
                <a:ext cx="100080" cy="69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3496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95600" y="5738760"/>
                <a:ext cx="10152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955880" y="5703840"/>
                <a:ext cx="10152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519360" y="5721480"/>
                <a:ext cx="1018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651120" y="5670720"/>
                <a:ext cx="9864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81440" y="54500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11760" y="5619600"/>
                <a:ext cx="9972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041720" y="5670720"/>
                <a:ext cx="10008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172040" y="5721480"/>
                <a:ext cx="1000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302000" y="5346720"/>
                <a:ext cx="100080" cy="409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432320" y="5686560"/>
                <a:ext cx="100080" cy="69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562640" y="5721480"/>
                <a:ext cx="997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83200" y="5738760"/>
                <a:ext cx="10152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29936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429680" y="5637240"/>
                <a:ext cx="99720" cy="119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561440" y="5397480"/>
                <a:ext cx="9828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83200" y="5721480"/>
                <a:ext cx="10152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651120" y="5653080"/>
                <a:ext cx="9864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83200" y="5703840"/>
                <a:ext cx="10152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14400" y="563724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4680" y="55674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47920" y="573876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38520" y="573876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998800" y="5703840"/>
                <a:ext cx="100080" cy="52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130560" y="5721480"/>
                <a:ext cx="982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259080" y="5637240"/>
                <a:ext cx="10152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651120" y="5637240"/>
                <a:ext cx="9864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432320" y="567072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62640" y="5703840"/>
                <a:ext cx="9972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083200" y="5670720"/>
                <a:ext cx="101520" cy="33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214960" y="573876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35520" y="5721480"/>
                <a:ext cx="1000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039080" y="5584680"/>
                <a:ext cx="100080" cy="1717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69040" y="5143680"/>
                <a:ext cx="100080" cy="6127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99360" y="4903920"/>
                <a:ext cx="100080" cy="64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429680" y="5465880"/>
                <a:ext cx="99720" cy="171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561440" y="5210280"/>
                <a:ext cx="98280" cy="187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950240" y="5533920"/>
                <a:ext cx="101520" cy="222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082000" y="5227560"/>
                <a:ext cx="98280" cy="528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087640" y="5738760"/>
                <a:ext cx="982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217600" y="5738760"/>
                <a:ext cx="1000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738520" y="5721480"/>
                <a:ext cx="100080" cy="172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83200" y="5653080"/>
                <a:ext cx="10152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561440" y="5192640"/>
                <a:ext cx="98280" cy="176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827360" y="5499000"/>
                <a:ext cx="98280" cy="2574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347920" y="5670720"/>
                <a:ext cx="100080" cy="680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998800" y="5686560"/>
                <a:ext cx="10008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519360" y="5670720"/>
                <a:ext cx="101880" cy="5076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214960" y="5721480"/>
                <a:ext cx="9828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45280" y="5721480"/>
                <a:ext cx="9972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475240" y="5738760"/>
                <a:ext cx="100080" cy="176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561440" y="5159520"/>
                <a:ext cx="98280" cy="331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914400" y="5619600"/>
                <a:ext cx="1000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05000" y="5637240"/>
                <a:ext cx="100080" cy="493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998800" y="5619600"/>
                <a:ext cx="100080" cy="669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30560" y="5686560"/>
                <a:ext cx="982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59080" y="5551560"/>
                <a:ext cx="101520" cy="856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0840" y="5738760"/>
                <a:ext cx="9864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22920" y="5738760"/>
                <a:ext cx="10152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083200" y="5637240"/>
                <a:ext cx="10152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345280" y="5686560"/>
                <a:ext cx="9972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78800" y="573876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429680" y="5450040"/>
                <a:ext cx="9972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61440" y="5040360"/>
                <a:ext cx="98280" cy="1191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63520" y="5415120"/>
                <a:ext cx="982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92040" y="5295960"/>
                <a:ext cx="101520" cy="460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2380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4120" y="5313240"/>
                <a:ext cx="100080" cy="443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84080" y="5262480"/>
                <a:ext cx="100080" cy="493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914400" y="5091120"/>
                <a:ext cx="100080" cy="528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044720" y="5192640"/>
                <a:ext cx="99720" cy="374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74680" y="5057640"/>
                <a:ext cx="100080" cy="50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05000" y="5518080"/>
                <a:ext cx="10008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34960" y="5653080"/>
                <a:ext cx="100080" cy="85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6720" y="5567400"/>
                <a:ext cx="98640" cy="189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695600" y="5499000"/>
                <a:ext cx="101520" cy="23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827360" y="5295960"/>
                <a:ext cx="98280" cy="2030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55880" y="5584680"/>
                <a:ext cx="10152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087640" y="5499000"/>
                <a:ext cx="98280" cy="239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217600" y="5518080"/>
                <a:ext cx="10008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347920" y="5465880"/>
                <a:ext cx="1000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478240" y="5450040"/>
                <a:ext cx="9972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608200" y="5602320"/>
                <a:ext cx="100080" cy="154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38520" y="5518080"/>
                <a:ext cx="100080" cy="203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68480" y="5584680"/>
                <a:ext cx="100080" cy="171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998800" y="5143680"/>
                <a:ext cx="100080" cy="475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30560" y="5465880"/>
                <a:ext cx="9828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259080" y="5533920"/>
                <a:ext cx="101520" cy="17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390840" y="5686560"/>
                <a:ext cx="98640" cy="52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19360" y="5465880"/>
                <a:ext cx="1018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51120" y="5295960"/>
                <a:ext cx="98640" cy="341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781440" y="5176800"/>
                <a:ext cx="100080" cy="273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911760" y="5499000"/>
                <a:ext cx="99720" cy="120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41720" y="5465880"/>
                <a:ext cx="100080" cy="20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172040" y="5397480"/>
                <a:ext cx="100080" cy="324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02000" y="4921200"/>
                <a:ext cx="10008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432320" y="5313240"/>
                <a:ext cx="100080" cy="357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62640" y="5073480"/>
                <a:ext cx="99720" cy="630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94400" y="5176800"/>
                <a:ext cx="98280" cy="579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822920" y="5415120"/>
                <a:ext cx="101520" cy="323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54680" y="5450040"/>
                <a:ext cx="982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83200" y="5192640"/>
                <a:ext cx="101520" cy="444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214960" y="5159520"/>
                <a:ext cx="982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345280" y="5245200"/>
                <a:ext cx="99720" cy="441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75240" y="5262480"/>
                <a:ext cx="100080" cy="476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605560" y="5483160"/>
                <a:ext cx="100080" cy="273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35520" y="5159520"/>
                <a:ext cx="1000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5840" y="5533920"/>
                <a:ext cx="100080" cy="22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97600" y="5518080"/>
                <a:ext cx="98280" cy="23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126120" y="5465880"/>
                <a:ext cx="100080" cy="290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257880" y="5313240"/>
                <a:ext cx="98640" cy="443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86400" y="5465880"/>
                <a:ext cx="101880" cy="290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518160" y="5295960"/>
                <a:ext cx="98640" cy="460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647040" y="5721480"/>
                <a:ext cx="101520" cy="3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778800" y="5227560"/>
                <a:ext cx="98280" cy="511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08760" y="5380200"/>
                <a:ext cx="100080" cy="376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39080" y="5176800"/>
                <a:ext cx="1000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169040" y="4971960"/>
                <a:ext cx="100080" cy="171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99360" y="4579920"/>
                <a:ext cx="100080" cy="324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29680" y="5108400"/>
                <a:ext cx="99720" cy="341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61440" y="4632480"/>
                <a:ext cx="982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89960" y="5686560"/>
                <a:ext cx="100080" cy="69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821720" y="5703840"/>
                <a:ext cx="98280" cy="525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50240" y="5108400"/>
                <a:ext cx="10152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082000" y="4718160"/>
                <a:ext cx="98280" cy="509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27360" y="5278320"/>
                <a:ext cx="9828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347920" y="5432400"/>
                <a:ext cx="100080" cy="334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81440" y="5159520"/>
                <a:ext cx="1000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302000" y="4886280"/>
                <a:ext cx="100080" cy="349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5040360"/>
                <a:ext cx="9972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039080" y="5159520"/>
                <a:ext cx="1000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69040" y="4938840"/>
                <a:ext cx="1000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54120" y="5227560"/>
                <a:ext cx="100080" cy="85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84080" y="5126040"/>
                <a:ext cx="100080" cy="1364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914400" y="5040360"/>
                <a:ext cx="1000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44720" y="5176800"/>
                <a:ext cx="9972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74680" y="5040360"/>
                <a:ext cx="10008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305000" y="5499000"/>
                <a:ext cx="100080" cy="19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566720" y="5518080"/>
                <a:ext cx="98640" cy="493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695600" y="5295960"/>
                <a:ext cx="101520" cy="203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827360" y="5005440"/>
                <a:ext cx="98280" cy="2728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955880" y="5567400"/>
                <a:ext cx="10152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2087640" y="5483160"/>
                <a:ext cx="982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32320" y="5278320"/>
                <a:ext cx="10008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14960" y="5091120"/>
                <a:ext cx="98280" cy="684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735520" y="5108400"/>
                <a:ext cx="100080" cy="511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39080" y="514368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299360" y="456408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044720" y="5126040"/>
                <a:ext cx="99720" cy="50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955880" y="5533920"/>
                <a:ext cx="10152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087640" y="5465880"/>
                <a:ext cx="9828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217600" y="5465880"/>
                <a:ext cx="100080" cy="5220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14960" y="5057640"/>
                <a:ext cx="9828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05560" y="5450040"/>
                <a:ext cx="100080" cy="33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429680" y="5091120"/>
                <a:ext cx="9972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0240" y="5091120"/>
                <a:ext cx="10152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55880" y="5518080"/>
                <a:ext cx="10152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087640" y="5024520"/>
                <a:ext cx="98280" cy="44136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217600" y="5364000"/>
                <a:ext cx="100080" cy="1018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347920" y="5330880"/>
                <a:ext cx="100080" cy="1015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82000" y="4699080"/>
                <a:ext cx="98280" cy="190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827360" y="4989600"/>
                <a:ext cx="982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87640" y="4921200"/>
                <a:ext cx="98280" cy="1033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608200" y="5551560"/>
                <a:ext cx="100080" cy="50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868480" y="5567400"/>
                <a:ext cx="100080" cy="172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998800" y="5126040"/>
                <a:ext cx="1000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130560" y="5346720"/>
                <a:ext cx="982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59080" y="5432400"/>
                <a:ext cx="101520" cy="1015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390840" y="5602320"/>
                <a:ext cx="9864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519360" y="5397480"/>
                <a:ext cx="101880" cy="684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1120" y="5278320"/>
                <a:ext cx="9864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781440" y="51436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11760" y="5227560"/>
                <a:ext cx="99720" cy="2714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32320" y="52624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562640" y="5024520"/>
                <a:ext cx="9972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86400" y="5450040"/>
                <a:ext cx="1018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8800" y="5108400"/>
                <a:ext cx="982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908760" y="5295960"/>
                <a:ext cx="10008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69040" y="4836960"/>
                <a:ext cx="100080" cy="1018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61440" y="461484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89960" y="567072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21720" y="5670720"/>
                <a:ext cx="982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950240" y="4921200"/>
                <a:ext cx="10152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82000" y="4683240"/>
                <a:ext cx="982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84080" y="5091120"/>
                <a:ext cx="100080" cy="3492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914400" y="5024520"/>
                <a:ext cx="100080" cy="1584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62640" y="5005440"/>
                <a:ext cx="99720" cy="190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63520" y="5192640"/>
                <a:ext cx="98280" cy="2224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263520" y="4257720"/>
              <a:ext cx="7916760" cy="1463760"/>
              <a:chOff x="263520" y="4257720"/>
              <a:chExt cx="7916760" cy="1463760"/>
            </a:xfrm>
          </p:grpSpPr>
          <p:sp>
            <p:nvSpPr>
              <p:cNvPr id="253" name=""/>
              <p:cNvSpPr/>
              <p:nvPr/>
            </p:nvSpPr>
            <p:spPr>
              <a:xfrm>
                <a:off x="392040" y="5057640"/>
                <a:ext cx="101520" cy="2383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23800" y="5278320"/>
                <a:ext cx="98640" cy="1717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4120" y="5210280"/>
                <a:ext cx="1000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87640" y="4870440"/>
                <a:ext cx="98280" cy="5076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17600" y="5330880"/>
                <a:ext cx="100080" cy="331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08200" y="5533920"/>
                <a:ext cx="100080" cy="176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998800" y="5091120"/>
                <a:ext cx="100080" cy="349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72040" y="5380200"/>
                <a:ext cx="1000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62640" y="4989600"/>
                <a:ext cx="9972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214960" y="5040360"/>
                <a:ext cx="98280" cy="172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345280" y="5227560"/>
                <a:ext cx="99720" cy="176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5840" y="5518080"/>
                <a:ext cx="10008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257880" y="5262480"/>
                <a:ext cx="98640" cy="5076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62640" y="4971960"/>
                <a:ext cx="99720" cy="176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74680" y="5024520"/>
                <a:ext cx="10008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62640" y="4956120"/>
                <a:ext cx="9972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694400" y="5143680"/>
                <a:ext cx="98280" cy="331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345280" y="5159520"/>
                <a:ext cx="99720" cy="68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05560" y="5159520"/>
                <a:ext cx="100080" cy="290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35520" y="5073480"/>
                <a:ext cx="1000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647040" y="5670720"/>
                <a:ext cx="101520" cy="507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29680" y="5073480"/>
                <a:ext cx="9972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50240" y="4886280"/>
                <a:ext cx="10152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305000" y="5380200"/>
                <a:ext cx="100080" cy="118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087640" y="4853160"/>
                <a:ext cx="982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81440" y="5126040"/>
                <a:ext cx="1000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302000" y="4784760"/>
                <a:ext cx="100080" cy="101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432320" y="4971960"/>
                <a:ext cx="100080" cy="290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562640" y="4938840"/>
                <a:ext cx="9972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475240" y="52452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05560" y="5143680"/>
                <a:ext cx="10008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8160" y="5278320"/>
                <a:ext cx="9864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169040" y="4802040"/>
                <a:ext cx="10008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29680" y="5057640"/>
                <a:ext cx="9972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827360" y="4853160"/>
                <a:ext cx="98280" cy="1364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5880" y="5397480"/>
                <a:ext cx="101520" cy="1206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87640" y="4767120"/>
                <a:ext cx="98280" cy="860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608200" y="5499000"/>
                <a:ext cx="100080" cy="349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432320" y="4956120"/>
                <a:ext cx="10008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83200" y="5176800"/>
                <a:ext cx="10152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5240" y="5192640"/>
                <a:ext cx="100080" cy="525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5840" y="5415120"/>
                <a:ext cx="100080" cy="10296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997600" y="5432400"/>
                <a:ext cx="98280" cy="856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126120" y="5450040"/>
                <a:ext cx="100080" cy="158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18160" y="5176800"/>
                <a:ext cx="98640" cy="101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647040" y="5499000"/>
                <a:ext cx="101520" cy="1717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69040" y="4767120"/>
                <a:ext cx="100080" cy="349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821720" y="5653080"/>
                <a:ext cx="9828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475240" y="5159520"/>
                <a:ext cx="100080" cy="33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605560" y="5108400"/>
                <a:ext cx="100080" cy="35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735520" y="5057640"/>
                <a:ext cx="100080" cy="158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126120" y="5432400"/>
                <a:ext cx="1000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257880" y="5227560"/>
                <a:ext cx="98640" cy="349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86400" y="5397480"/>
                <a:ext cx="101880" cy="52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518160" y="5126040"/>
                <a:ext cx="98640" cy="507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47040" y="5465880"/>
                <a:ext cx="101520" cy="3312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039080" y="5108400"/>
                <a:ext cx="100080" cy="35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169040" y="4751280"/>
                <a:ext cx="100080" cy="158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29680" y="5040360"/>
                <a:ext cx="99720" cy="172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689960" y="5653080"/>
                <a:ext cx="1000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694400" y="5126040"/>
                <a:ext cx="9828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22920" y="5397480"/>
                <a:ext cx="10152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386400" y="5364000"/>
                <a:ext cx="101880" cy="334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14960" y="5005440"/>
                <a:ext cx="982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561440" y="4579920"/>
                <a:ext cx="982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63520" y="5159520"/>
                <a:ext cx="98280" cy="331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44720" y="5108400"/>
                <a:ext cx="9972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566720" y="548316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695600" y="5262480"/>
                <a:ext cx="10152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7360" y="4819680"/>
                <a:ext cx="982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87640" y="4751280"/>
                <a:ext cx="982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608200" y="5483160"/>
                <a:ext cx="1000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738520" y="5499000"/>
                <a:ext cx="100080" cy="190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868480" y="5533920"/>
                <a:ext cx="1000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90840" y="556740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19360" y="5024520"/>
                <a:ext cx="101880" cy="3729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51120" y="5108400"/>
                <a:ext cx="98640" cy="169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781440" y="4853160"/>
                <a:ext cx="100080" cy="2728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02000" y="4767120"/>
                <a:ext cx="1000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432320" y="492120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62640" y="4903920"/>
                <a:ext cx="9972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694400" y="5073480"/>
                <a:ext cx="98280" cy="525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822920" y="5364000"/>
                <a:ext cx="10152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954680" y="5397480"/>
                <a:ext cx="98280" cy="525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45280" y="5091120"/>
                <a:ext cx="9972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475240" y="5073480"/>
                <a:ext cx="100080" cy="86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05560" y="505764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35520" y="498960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57880" y="5176800"/>
                <a:ext cx="9864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86400" y="5262480"/>
                <a:ext cx="101880" cy="1015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518160" y="5108400"/>
                <a:ext cx="9864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647040" y="5380200"/>
                <a:ext cx="101520" cy="856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78800" y="509112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908760" y="524520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39080" y="507348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69040" y="468324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299360" y="4462560"/>
                <a:ext cx="100080" cy="1015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29680" y="5024520"/>
                <a:ext cx="9972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61440" y="4511520"/>
                <a:ext cx="9828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950240" y="4853160"/>
                <a:ext cx="101520" cy="331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8082000" y="4614840"/>
                <a:ext cx="98280" cy="6840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14400" y="5005440"/>
                <a:ext cx="100080" cy="190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044720" y="5091120"/>
                <a:ext cx="9972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87640" y="4734000"/>
                <a:ext cx="982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217600" y="5313240"/>
                <a:ext cx="10008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347920" y="5295960"/>
                <a:ext cx="100080" cy="34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738520" y="5483160"/>
                <a:ext cx="100080" cy="158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781440" y="4836960"/>
                <a:ext cx="100080" cy="162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562640" y="4886280"/>
                <a:ext cx="9972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954680" y="5313240"/>
                <a:ext cx="98280" cy="842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214960" y="4971960"/>
                <a:ext cx="98280" cy="334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45280" y="5073480"/>
                <a:ext cx="99720" cy="176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475240" y="5040360"/>
                <a:ext cx="100080" cy="33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735520" y="4956120"/>
                <a:ext cx="100080" cy="334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86400" y="5245200"/>
                <a:ext cx="1018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518160" y="5091120"/>
                <a:ext cx="9864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69040" y="4632480"/>
                <a:ext cx="100080" cy="5076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299360" y="4427640"/>
                <a:ext cx="100080" cy="349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561440" y="4444920"/>
                <a:ext cx="98280" cy="666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950240" y="4836960"/>
                <a:ext cx="101520" cy="1620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98800" y="505764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45280" y="5057640"/>
                <a:ext cx="9972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475240" y="5005440"/>
                <a:ext cx="10008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647040" y="5364000"/>
                <a:ext cx="101520" cy="1620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29680" y="4989600"/>
                <a:ext cx="9972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54120" y="4989600"/>
                <a:ext cx="100080" cy="2206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044720" y="5040360"/>
                <a:ext cx="99720" cy="50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174680" y="5005440"/>
                <a:ext cx="100080" cy="190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27360" y="4802040"/>
                <a:ext cx="982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519360" y="4971960"/>
                <a:ext cx="101880" cy="525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041720" y="5450040"/>
                <a:ext cx="100080" cy="158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345280" y="5024520"/>
                <a:ext cx="99720" cy="331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475240" y="4971960"/>
                <a:ext cx="10008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908760" y="5176800"/>
                <a:ext cx="100080" cy="684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99360" y="4410000"/>
                <a:ext cx="1000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082000" y="4597560"/>
                <a:ext cx="98280" cy="17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434960" y="5619600"/>
                <a:ext cx="1000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478240" y="5415120"/>
                <a:ext cx="99720" cy="34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998800" y="5024520"/>
                <a:ext cx="10008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30560" y="5330880"/>
                <a:ext cx="9828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562640" y="4870440"/>
                <a:ext cx="9972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2920" y="5330880"/>
                <a:ext cx="10152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214960" y="4938840"/>
                <a:ext cx="98280" cy="331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345280" y="4971960"/>
                <a:ext cx="99720" cy="525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434960" y="5567400"/>
                <a:ext cx="100080" cy="5220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08200" y="5465880"/>
                <a:ext cx="10008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214960" y="4921200"/>
                <a:ext cx="98280" cy="1764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299360" y="4376880"/>
                <a:ext cx="100080" cy="331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434960" y="5533920"/>
                <a:ext cx="100080" cy="334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087640" y="4699080"/>
                <a:ext cx="98280" cy="34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738520" y="5465880"/>
                <a:ext cx="1000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432320" y="4649760"/>
                <a:ext cx="100080" cy="2714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14960" y="4903920"/>
                <a:ext cx="982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735520" y="4938840"/>
                <a:ext cx="100080" cy="1728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27360" y="4784760"/>
                <a:ext cx="982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083200" y="5159520"/>
                <a:ext cx="10152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61440" y="4427640"/>
                <a:ext cx="982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63520" y="5143680"/>
                <a:ext cx="98280" cy="158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84080" y="5057640"/>
                <a:ext cx="1000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044720" y="5024520"/>
                <a:ext cx="99720" cy="158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434960" y="5499000"/>
                <a:ext cx="100080" cy="349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5520" y="4921200"/>
                <a:ext cx="100080" cy="176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561440" y="4410000"/>
                <a:ext cx="98280" cy="1764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23800" y="5262480"/>
                <a:ext cx="98640" cy="158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54120" y="4971960"/>
                <a:ext cx="100080" cy="176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434960" y="5465880"/>
                <a:ext cx="100080" cy="331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998800" y="5005440"/>
                <a:ext cx="100080" cy="190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735520" y="4784760"/>
                <a:ext cx="100080" cy="136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99360" y="4257720"/>
                <a:ext cx="100080" cy="11916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29680" y="4853160"/>
                <a:ext cx="99720" cy="1364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434960" y="543240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130560" y="5295960"/>
                <a:ext cx="98280" cy="349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5840" y="5380200"/>
                <a:ext cx="100080" cy="349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608200" y="5450040"/>
                <a:ext cx="1000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45280" y="4903920"/>
                <a:ext cx="99720" cy="680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735520" y="4718160"/>
                <a:ext cx="100080" cy="6660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86400" y="5227560"/>
                <a:ext cx="1018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908760" y="5143680"/>
                <a:ext cx="100080" cy="331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561440" y="439272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955880" y="5380200"/>
                <a:ext cx="10152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998800" y="4989600"/>
                <a:ext cx="100080" cy="15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172040" y="5364000"/>
                <a:ext cx="100080" cy="1620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18160" y="5073480"/>
                <a:ext cx="9864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172040" y="5346720"/>
                <a:ext cx="100080" cy="172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386400" y="4956120"/>
                <a:ext cx="101880" cy="2714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434960" y="5380200"/>
                <a:ext cx="100080" cy="52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827360" y="4632480"/>
                <a:ext cx="98280" cy="152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87640" y="4683240"/>
                <a:ext cx="98280" cy="15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868480" y="5483160"/>
                <a:ext cx="100080" cy="507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998800" y="495612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130560" y="5159520"/>
                <a:ext cx="98280" cy="1364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259080" y="5415120"/>
                <a:ext cx="10152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390840" y="5518080"/>
                <a:ext cx="98640" cy="493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19360" y="4938840"/>
                <a:ext cx="10188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041720" y="5397480"/>
                <a:ext cx="100080" cy="525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4172040" y="531324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345280" y="4886280"/>
                <a:ext cx="99720" cy="17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05560" y="4886280"/>
                <a:ext cx="100080" cy="1713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735520" y="4683240"/>
                <a:ext cx="10008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5840" y="5346720"/>
                <a:ext cx="1000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24480" y="1498680"/>
              <a:ext cx="8171640" cy="4310280"/>
              <a:chOff x="24480" y="1498680"/>
              <a:chExt cx="8171640" cy="4310280"/>
            </a:xfrm>
          </p:grpSpPr>
          <p:sp>
            <p:nvSpPr>
              <p:cNvPr id="454" name=""/>
              <p:cNvSpPr/>
              <p:nvPr/>
            </p:nvSpPr>
            <p:spPr>
              <a:xfrm>
                <a:off x="6126120" y="5415120"/>
                <a:ext cx="1000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647040" y="5330880"/>
                <a:ext cx="10152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39080" y="5024520"/>
                <a:ext cx="100080" cy="4896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950240" y="4767120"/>
                <a:ext cx="101520" cy="69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54120" y="4938840"/>
                <a:ext cx="10008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74680" y="4989600"/>
                <a:ext cx="100080" cy="15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566720" y="5380200"/>
                <a:ext cx="98640" cy="1029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695600" y="5192640"/>
                <a:ext cx="101520" cy="69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827360" y="4290840"/>
                <a:ext cx="98280" cy="341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55880" y="5126040"/>
                <a:ext cx="101520" cy="2541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087640" y="4205160"/>
                <a:ext cx="98280" cy="478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17600" y="5245200"/>
                <a:ext cx="10008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478240" y="5397480"/>
                <a:ext cx="9972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608200" y="5262480"/>
                <a:ext cx="100080" cy="1875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738520" y="5245200"/>
                <a:ext cx="100080" cy="2206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868480" y="5330880"/>
                <a:ext cx="100080" cy="152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998800" y="4802040"/>
                <a:ext cx="100080" cy="154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651120" y="5091120"/>
                <a:ext cx="9864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911760" y="5210280"/>
                <a:ext cx="9972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41720" y="538020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72040" y="529596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302000" y="4665600"/>
                <a:ext cx="100080" cy="1015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214960" y="48862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475240" y="4956120"/>
                <a:ext cx="100080" cy="158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997600" y="5192640"/>
                <a:ext cx="98280" cy="2397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126120" y="5126040"/>
                <a:ext cx="100080" cy="2890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518160" y="5005440"/>
                <a:ext cx="9864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29680" y="4751280"/>
                <a:ext cx="99720" cy="1018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21720" y="5483160"/>
                <a:ext cx="98280" cy="169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50240" y="4070520"/>
                <a:ext cx="101520" cy="6966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082000" y="4530600"/>
                <a:ext cx="98280" cy="669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434960" y="5364000"/>
                <a:ext cx="10008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955880" y="5091120"/>
                <a:ext cx="101520" cy="349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68480" y="5227560"/>
                <a:ext cx="100080" cy="103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562640" y="4836960"/>
                <a:ext cx="99720" cy="33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83200" y="5143680"/>
                <a:ext cx="101520" cy="158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735520" y="4632480"/>
                <a:ext cx="100080" cy="5076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18160" y="4956120"/>
                <a:ext cx="98640" cy="493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2040" y="5024520"/>
                <a:ext cx="10152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23800" y="5245200"/>
                <a:ext cx="9864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54120" y="492120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914400" y="4971960"/>
                <a:ext cx="100080" cy="334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044720" y="4956120"/>
                <a:ext cx="99720" cy="684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74680" y="4802040"/>
                <a:ext cx="100080" cy="1875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5000" y="5295960"/>
                <a:ext cx="100080" cy="84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434960" y="5313240"/>
                <a:ext cx="100080" cy="507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566720" y="5245200"/>
                <a:ext cx="98640" cy="1350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695600" y="5126040"/>
                <a:ext cx="101520" cy="666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955880" y="507348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868480" y="5126040"/>
                <a:ext cx="100080" cy="1015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651120" y="5073480"/>
                <a:ext cx="9864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81440" y="4767120"/>
                <a:ext cx="100080" cy="69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911760" y="5192640"/>
                <a:ext cx="997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302000" y="4649760"/>
                <a:ext cx="1000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62640" y="4802040"/>
                <a:ext cx="9972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694400" y="5024520"/>
                <a:ext cx="98280" cy="489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22920" y="53132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083200" y="51260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647040" y="5313240"/>
                <a:ext cx="10152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039080" y="5005440"/>
                <a:ext cx="100080" cy="19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561440" y="4359240"/>
                <a:ext cx="98280" cy="334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392040" y="5005440"/>
                <a:ext cx="10152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044720" y="4886280"/>
                <a:ext cx="99720" cy="69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174680" y="476712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695600" y="5108400"/>
                <a:ext cx="1015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827360" y="4273560"/>
                <a:ext cx="982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955880" y="5057640"/>
                <a:ext cx="10152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087640" y="4156200"/>
                <a:ext cx="98280" cy="48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868480" y="5024520"/>
                <a:ext cx="10008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519360" y="4921200"/>
                <a:ext cx="1018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651120" y="5057640"/>
                <a:ext cx="9864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911760" y="5176800"/>
                <a:ext cx="9972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302000" y="463248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432320" y="4597560"/>
                <a:ext cx="100080" cy="52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62640" y="4734000"/>
                <a:ext cx="99720" cy="680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694400" y="4989600"/>
                <a:ext cx="982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3200" y="5108400"/>
                <a:ext cx="1015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214960" y="4870440"/>
                <a:ext cx="982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475240" y="492120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605560" y="487044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735520" y="459756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5840" y="5313240"/>
                <a:ext cx="1000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86400" y="4921200"/>
                <a:ext cx="1018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47040" y="5295960"/>
                <a:ext cx="10152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78800" y="5057640"/>
                <a:ext cx="982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7039080" y="4956120"/>
                <a:ext cx="100080" cy="493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7169040" y="459756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7299360" y="4189320"/>
                <a:ext cx="100080" cy="68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7561440" y="4343400"/>
                <a:ext cx="982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689960" y="563724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082000" y="4511520"/>
                <a:ext cx="9828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429680" y="4734000"/>
                <a:ext cx="99720" cy="1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561440" y="4325760"/>
                <a:ext cx="982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689960" y="5619600"/>
                <a:ext cx="1000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82000" y="4392720"/>
                <a:ext cx="98280" cy="118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914400" y="4956120"/>
                <a:ext cx="1000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087640" y="4119480"/>
                <a:ext cx="98280" cy="367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911760" y="5143680"/>
                <a:ext cx="9972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954680" y="5295960"/>
                <a:ext cx="9828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47040" y="5278320"/>
                <a:ext cx="10152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63520" y="5108400"/>
                <a:ext cx="98280" cy="35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54120" y="4903920"/>
                <a:ext cx="100080" cy="17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914400" y="4921200"/>
                <a:ext cx="10008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174680" y="4665600"/>
                <a:ext cx="100080" cy="1015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566720" y="521028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827360" y="424008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087640" y="3984480"/>
                <a:ext cx="98280" cy="1350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78240" y="5313240"/>
                <a:ext cx="99720" cy="84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519360" y="4870440"/>
                <a:ext cx="10188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781440" y="4751280"/>
                <a:ext cx="100080" cy="158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11760" y="5126040"/>
                <a:ext cx="9972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02000" y="4597560"/>
                <a:ext cx="10008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432320" y="4546440"/>
                <a:ext cx="100080" cy="51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94400" y="4971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954680" y="527832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214960" y="483696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605560" y="4802040"/>
                <a:ext cx="100080" cy="684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57880" y="5126040"/>
                <a:ext cx="9864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518160" y="492120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647040" y="5245200"/>
                <a:ext cx="101520" cy="33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169040" y="4376880"/>
                <a:ext cx="100080" cy="2206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99360" y="4156200"/>
                <a:ext cx="100080" cy="33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29680" y="4683240"/>
                <a:ext cx="99720" cy="50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950240" y="4037040"/>
                <a:ext cx="10152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082000" y="4359240"/>
                <a:ext cx="982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7680" y="1498680"/>
                <a:ext cx="0" cy="425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17440" y="5756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17440" y="490392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17440" y="40528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17440" y="3201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7440" y="235116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17440" y="14986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7680" y="5756400"/>
                <a:ext cx="794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47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378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07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638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770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898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1030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115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1290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1419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1550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1681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811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1941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071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201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333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2462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593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22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2854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982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3114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3244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375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3505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3635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765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897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4025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4157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4286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4417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546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678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4808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493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068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5199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53290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460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589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721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850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981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6111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6242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6372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502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6632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6762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6892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7024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7153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7284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7413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75452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75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7805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7935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8066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8196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36440" y="5694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1360" y="4843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480" y="39924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4480" y="313992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480" y="228924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4480" y="1328760"/>
              <a:ext cx="9054720" cy="4813200"/>
              <a:chOff x="24480" y="1328760"/>
              <a:chExt cx="9054720" cy="4813200"/>
            </a:xfrm>
          </p:grpSpPr>
          <p:sp>
            <p:nvSpPr>
              <p:cNvPr id="655" name=""/>
              <p:cNvSpPr/>
              <p:nvPr/>
            </p:nvSpPr>
            <p:spPr>
              <a:xfrm>
                <a:off x="24480" y="14382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6200000">
                <a:off x="27468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6200000">
                <a:off x="40464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6200000">
                <a:off x="53496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6200000">
                <a:off x="66492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6200000">
                <a:off x="79668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6200000">
                <a:off x="92520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6200000">
                <a:off x="105732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6200000">
                <a:off x="118584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6200000">
                <a:off x="1317600" y="57794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6200000">
                <a:off x="14180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6200000">
                <a:off x="15498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200000">
                <a:off x="16797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200000">
                <a:off x="18100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200000">
                <a:off x="19418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6200000">
                <a:off x="20736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200000">
                <a:off x="22039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00000">
                <a:off x="23356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200000">
                <a:off x="246420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200000">
                <a:off x="25959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6200000">
                <a:off x="27244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6200000">
                <a:off x="28562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6200000">
                <a:off x="29847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6200000">
                <a:off x="31165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6200000">
                <a:off x="3246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6200000">
                <a:off x="33768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6200000">
                <a:off x="35071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6200000">
                <a:off x="36374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6200000">
                <a:off x="37674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6200000">
                <a:off x="38991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16200000">
                <a:off x="40276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16200000">
                <a:off x="41594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431640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6200000">
                <a:off x="444636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16200000">
                <a:off x="457668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16200000">
                <a:off x="470664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16200000">
                <a:off x="483840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16200000">
                <a:off x="496728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16200000">
                <a:off x="509904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16200000">
                <a:off x="522756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6200000">
                <a:off x="5359320" y="577620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6200000">
                <a:off x="54612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200000">
                <a:off x="55915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6200000">
                <a:off x="5721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6200000">
                <a:off x="58503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6200000">
                <a:off x="59821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6200000">
                <a:off x="61120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6200000">
                <a:off x="62424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6200000">
                <a:off x="63741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16200000">
                <a:off x="650268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16200000">
                <a:off x="66344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16200000">
                <a:off x="676296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16200000">
                <a:off x="689472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6200000">
                <a:off x="7025040" y="580860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rot="16200000">
                <a:off x="715536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rot="16200000">
                <a:off x="72853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rot="16200000">
                <a:off x="741564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rot="16200000">
                <a:off x="754560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rot="16200000">
                <a:off x="76759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rot="16200000">
                <a:off x="780624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rot="16200000">
                <a:off x="793800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rot="16200000">
                <a:off x="8066520" y="580536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378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07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38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70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8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030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15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290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419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550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681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11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941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2071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2201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333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462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593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2722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854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982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114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244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375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505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635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765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897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025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157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417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546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678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808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93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068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199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3290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460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589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721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50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981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111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42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372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502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632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62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892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024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153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284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413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5452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675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805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935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066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260440" y="60166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6235560" y="60166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4768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819612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286160" y="5756400"/>
                <a:ext cx="0" cy="38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296200" y="1328760"/>
                <a:ext cx="757440" cy="4761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323200" y="1360440"/>
                <a:ext cx="33480" cy="334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380080" y="1347840"/>
                <a:ext cx="4197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6-Pueyrred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323200" y="1468440"/>
                <a:ext cx="33480" cy="334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380080" y="1455840"/>
                <a:ext cx="369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5-Rivadavi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323200" y="1576440"/>
                <a:ext cx="334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380800" y="1563840"/>
                <a:ext cx="264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4-Irigo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323200" y="1684440"/>
                <a:ext cx="33480" cy="331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380440" y="1673280"/>
                <a:ext cx="54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3-Bartolome Mitr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323200" y="1792440"/>
                <a:ext cx="3348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8380800" y="1781280"/>
                <a:ext cx="226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2-Itali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8323200" y="1901880"/>
                <a:ext cx="33480" cy="3312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381160" y="188928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1-Cones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323200" y="2009880"/>
                <a:ext cx="3348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8382600" y="1996920"/>
                <a:ext cx="261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40-Pard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323200" y="2117880"/>
                <a:ext cx="33480" cy="33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380080" y="2104920"/>
                <a:ext cx="3848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9-Corriente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323200" y="2225520"/>
                <a:ext cx="33480" cy="334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379000" y="2212920"/>
                <a:ext cx="3985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8-Sourdeaux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23200" y="2333520"/>
                <a:ext cx="3348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379720" y="2322360"/>
                <a:ext cx="39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7-San Mart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323200" y="2441520"/>
                <a:ext cx="33480" cy="349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378280" y="2430360"/>
                <a:ext cx="640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6-Av. Senador Moro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323200" y="2550960"/>
                <a:ext cx="334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8379360" y="253836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5-Gral Villega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8323200" y="2658960"/>
                <a:ext cx="33480" cy="3348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8379360" y="2646360"/>
                <a:ext cx="4273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4-Granader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8323200" y="2766960"/>
                <a:ext cx="334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8380080" y="2754360"/>
                <a:ext cx="352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2-Jaurech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8323200" y="2874960"/>
                <a:ext cx="33480" cy="334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8382240" y="2862360"/>
                <a:ext cx="4381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1-Niceto Veg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323200" y="2982960"/>
                <a:ext cx="33480" cy="331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8382240" y="2971800"/>
                <a:ext cx="3772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1-Necoche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323200" y="3090960"/>
                <a:ext cx="33480" cy="349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379360" y="3079800"/>
                <a:ext cx="5828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30-Benigno Ocamp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323200" y="3200400"/>
                <a:ext cx="334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379360" y="3187800"/>
                <a:ext cx="53712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9-Gral. Rodrigue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323200" y="3308400"/>
                <a:ext cx="33480" cy="331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380440" y="3295800"/>
                <a:ext cx="3495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8-Matienz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323200" y="3416400"/>
                <a:ext cx="33480" cy="33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375760" y="3403440"/>
                <a:ext cx="703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7-Boulevard San Martin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323200" y="3524400"/>
                <a:ext cx="33480" cy="331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379360" y="3511440"/>
                <a:ext cx="453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6-Gral. Horn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323200" y="3632040"/>
                <a:ext cx="334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376480" y="3621240"/>
                <a:ext cx="6606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5-Lisandro de la Torre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8323200" y="3740040"/>
                <a:ext cx="334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8381160" y="3728880"/>
                <a:ext cx="4366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4-Av. Ameri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8323200" y="3849840"/>
                <a:ext cx="33480" cy="331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8380800" y="383688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3-Av. Gral Pa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8323200" y="3957480"/>
                <a:ext cx="33480" cy="334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379720" y="3944880"/>
                <a:ext cx="480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2-Benito Juarez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323200" y="4065480"/>
                <a:ext cx="33480" cy="3348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380080" y="4052880"/>
                <a:ext cx="4244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1-Nueva York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323200" y="4173480"/>
                <a:ext cx="33480" cy="33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78640" y="4160880"/>
                <a:ext cx="34524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20-Chivilco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323200" y="4281480"/>
                <a:ext cx="334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380080" y="4270320"/>
                <a:ext cx="3513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9-Av. Beiro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8323200" y="4389480"/>
                <a:ext cx="33480" cy="349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381520" y="4378320"/>
                <a:ext cx="5295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8-Emilio Lamar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323200" y="4498920"/>
                <a:ext cx="33480" cy="3348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383680" y="4486320"/>
                <a:ext cx="36648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7-Campan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3200" y="4606920"/>
                <a:ext cx="33480" cy="334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381160" y="459432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6-Cuen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8323200" y="4714920"/>
                <a:ext cx="334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382600" y="4702320"/>
                <a:ext cx="2721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5-Nazc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323200" y="4822920"/>
                <a:ext cx="3348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8382600" y="4809960"/>
                <a:ext cx="3099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4-Nogoya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23200" y="4930920"/>
                <a:ext cx="33480" cy="331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8383320" y="4919760"/>
                <a:ext cx="4518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3-Empedrado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323200" y="5038560"/>
                <a:ext cx="3348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380440" y="5027760"/>
                <a:ext cx="28260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2-Trelle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323200" y="5148360"/>
                <a:ext cx="334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381520" y="5135400"/>
                <a:ext cx="518760" cy="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500" spc="-1" strike="noStrike">
                    <a:solidFill>
                      <a:srgbClr val="000000"/>
                    </a:solidFill>
                    <a:latin typeface="Arial"/>
                  </a:rPr>
                  <a:t>11-Jorge Newbery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323200" y="5256360"/>
                <a:ext cx="334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>
              <a:off x="8381520" y="5243400"/>
              <a:ext cx="3222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323200" y="5364000"/>
              <a:ext cx="33480" cy="334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379360" y="5351400"/>
              <a:ext cx="496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8-Av. 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23200" y="5472000"/>
              <a:ext cx="33480" cy="3348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82600" y="5459400"/>
              <a:ext cx="317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7-Velazc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323200" y="5580000"/>
              <a:ext cx="33480" cy="3348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381160" y="5567400"/>
              <a:ext cx="2779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6-Loyol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23200" y="568800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381520" y="5676840"/>
              <a:ext cx="445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5-Av. Cordob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323200" y="5796000"/>
              <a:ext cx="33480" cy="34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382240" y="5784840"/>
              <a:ext cx="320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3-Cabre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23200" y="5905440"/>
              <a:ext cx="33480" cy="33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380080" y="5892840"/>
              <a:ext cx="2660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2-Gorrit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323200" y="6013440"/>
              <a:ext cx="33480" cy="33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80440" y="600084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-6732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7680" y="1309680"/>
              <a:ext cx="94464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95560" y="131760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963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0100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24188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8940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96200" y="1138320"/>
              <a:ext cx="757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345520" y="115884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0138C-8C6F-4B06-BEC8-9CC29559E597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F6A74-C8E3-4887-9426-812BABE7FE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4151" name=""/>
          <p:cNvGrpSpPr/>
          <p:nvPr/>
        </p:nvGrpSpPr>
        <p:grpSpPr>
          <a:xfrm>
            <a:off x="50760" y="895320"/>
            <a:ext cx="9164520" cy="5565960"/>
            <a:chOff x="50760" y="895320"/>
            <a:chExt cx="9164520" cy="5565960"/>
          </a:xfrm>
        </p:grpSpPr>
        <p:grpSp>
          <p:nvGrpSpPr>
            <p:cNvPr id="4152" name=""/>
            <p:cNvGrpSpPr/>
            <p:nvPr/>
          </p:nvGrpSpPr>
          <p:grpSpPr>
            <a:xfrm>
              <a:off x="188640" y="1235160"/>
              <a:ext cx="8166240" cy="4843440"/>
              <a:chOff x="188640" y="1235160"/>
              <a:chExt cx="8166240" cy="4843440"/>
            </a:xfrm>
          </p:grpSpPr>
          <p:sp>
            <p:nvSpPr>
              <p:cNvPr id="4153" name=""/>
              <p:cNvSpPr/>
              <p:nvPr/>
            </p:nvSpPr>
            <p:spPr>
              <a:xfrm>
                <a:off x="411120" y="1935000"/>
                <a:ext cx="794376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411120" y="602604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411120" y="551484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411120" y="50022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411120" y="44928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11120" y="39798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411120" y="34704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411120" y="29574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411120" y="24462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11120" y="1935000"/>
                <a:ext cx="794376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11120" y="1935000"/>
                <a:ext cx="794376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6811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157968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4013280" y="5361120"/>
                <a:ext cx="98280" cy="4078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49086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503712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606276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6831000" y="5616720"/>
                <a:ext cx="9828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6959520" y="4900680"/>
                <a:ext cx="98640" cy="86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70866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7601040" y="3111480"/>
                <a:ext cx="98280" cy="2657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7728120" y="2112840"/>
                <a:ext cx="99720" cy="36561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7856640" y="4414680"/>
                <a:ext cx="98280" cy="1354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798516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811224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411120" y="5769000"/>
                <a:ext cx="794376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 flipV="1">
                <a:off x="79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 flipV="1">
                <a:off x="92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1050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 flipV="1">
                <a:off x="1179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 flipV="1">
                <a:off x="1308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 flipV="1">
                <a:off x="14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 flipV="1">
                <a:off x="156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 flipV="1">
                <a:off x="16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 flipV="1">
                <a:off x="182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 flipV="1">
                <a:off x="19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 flipV="1">
                <a:off x="20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 flipV="1">
                <a:off x="2205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 flipV="1">
                <a:off x="233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 flipV="1">
                <a:off x="24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 flipV="1">
                <a:off x="2589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 flipV="1">
                <a:off x="2717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 flipV="1">
                <a:off x="2844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 flipV="1">
                <a:off x="2973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 flipV="1">
                <a:off x="3102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 flipV="1">
                <a:off x="3228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 flipV="1">
                <a:off x="3357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 flipV="1">
                <a:off x="3487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 flipV="1">
                <a:off x="3614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 flipV="1">
                <a:off x="374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 flipV="1">
                <a:off x="3871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V="1">
                <a:off x="399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 flipV="1">
                <a:off x="4127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 flipV="1">
                <a:off x="425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 flipV="1">
                <a:off x="4383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 flipV="1">
                <a:off x="4511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 flipV="1">
                <a:off x="4638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4767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 flipV="1">
                <a:off x="4896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 flipV="1">
                <a:off x="5022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 flipV="1">
                <a:off x="515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 flipV="1">
                <a:off x="5280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 flipV="1">
                <a:off x="5408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 flipV="1">
                <a:off x="5537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 flipV="1">
                <a:off x="566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 flipV="1">
                <a:off x="5792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 flipV="1">
                <a:off x="5921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 flipV="1">
                <a:off x="6048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 flipV="1">
                <a:off x="6176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 flipV="1">
                <a:off x="6305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 flipV="1">
                <a:off x="6432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 flipV="1">
                <a:off x="6561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 flipV="1">
                <a:off x="668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 flipV="1">
                <a:off x="6816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 flipV="1">
                <a:off x="6945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 flipV="1">
                <a:off x="707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 flipV="1">
                <a:off x="7201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 flipV="1">
                <a:off x="7329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V="1">
                <a:off x="7458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 flipV="1">
                <a:off x="7586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 flipV="1">
                <a:off x="7715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 flipV="1">
                <a:off x="7842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 flipV="1">
                <a:off x="7970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 flipV="1">
                <a:off x="8099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 flipV="1">
                <a:off x="8226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 flipV="1">
                <a:off x="8354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68324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rot="16200000">
                <a:off x="822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 rot="16200000">
                <a:off x="950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 rot="16200000">
                <a:off x="10778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 rot="16200000">
                <a:off x="12063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 rot="16200000">
                <a:off x="13348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 rot="16200000">
                <a:off x="1463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 rot="16200000">
                <a:off x="1564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 rot="16200000">
                <a:off x="1692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 rot="16200000">
                <a:off x="18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 rot="16200000">
                <a:off x="19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 rot="16200000">
                <a:off x="2078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 rot="16200000">
                <a:off x="2205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 rot="16200000">
                <a:off x="2333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 rot="16200000">
                <a:off x="2460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 rot="16200000">
                <a:off x="2589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 rot="16200000">
                <a:off x="271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 rot="16200000">
                <a:off x="2845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 rot="16200000">
                <a:off x="2973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 rot="16200000">
                <a:off x="3102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 rot="16200000">
                <a:off x="32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 rot="16200000">
                <a:off x="3359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 rot="16200000">
                <a:off x="3488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 rot="16200000">
                <a:off x="3615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 rot="16200000">
                <a:off x="3743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 rot="16200000">
                <a:off x="3872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 rot="16200000">
                <a:off x="3999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 rot="16200000">
                <a:off x="4127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 rot="16200000">
                <a:off x="4254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 rot="16200000">
                <a:off x="4411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 rot="16200000">
                <a:off x="45399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 rot="16200000">
                <a:off x="4667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 rot="16200000">
                <a:off x="4795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 rot="16200000">
                <a:off x="49244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 rot="16200000">
                <a:off x="5051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 rot="16200000">
                <a:off x="5180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 rot="16200000">
                <a:off x="5308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 rot="16200000">
                <a:off x="5437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 rot="16200000">
                <a:off x="5537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 rot="16200000">
                <a:off x="5664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 rot="16200000">
                <a:off x="57931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 rot="16200000">
                <a:off x="5921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 rot="16200000">
                <a:off x="604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 rot="16200000">
                <a:off x="6177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 rot="16200000">
                <a:off x="6305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 rot="16200000">
                <a:off x="6432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 rot="16200000">
                <a:off x="6561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 rot="16200000">
                <a:off x="66902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 rot="16200000">
                <a:off x="6816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 rot="16200000">
                <a:off x="6945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 rot="16200000">
                <a:off x="70743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 rot="16200000">
                <a:off x="72014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 rot="16200000">
                <a:off x="7331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 rot="16200000">
                <a:off x="74584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 rot="16200000">
                <a:off x="75870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 rot="16200000">
                <a:off x="77155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 rot="16200000">
                <a:off x="7842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rot="16200000">
                <a:off x="79711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rot="16200000">
                <a:off x="80996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rot="16200000">
                <a:off x="8226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79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923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1050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11793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1308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43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1565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16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182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19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0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2205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2333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2460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2589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2717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2844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2973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31021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3228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3357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3487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3614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3743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3871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3998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4127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3" name=""/>
            <p:cNvSpPr/>
            <p:nvPr/>
          </p:nvSpPr>
          <p:spPr>
            <a:xfrm>
              <a:off x="425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4511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>
              <a:off x="4638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4767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4896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5022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515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5280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>
              <a:off x="5408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5537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566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5792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5921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6048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>
              <a:off x="6176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6305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6432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6561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6689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6816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>
              <a:off x="6945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07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7201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329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7458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586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>
              <a:off x="7715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842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>
              <a:off x="7970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8099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>
              <a:off x="8226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239148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>
              <a:off x="63360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>
              <a:off x="83548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43830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>
              <a:off x="8454960" y="3981600"/>
              <a:ext cx="76032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84916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>
              <a:off x="8602560" y="4005360"/>
              <a:ext cx="59508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5-Rivadav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4125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>
              <a:off x="41724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4405320" y="6297480"/>
              <a:ext cx="2332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>
              <a:off x="44517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8454960" y="3790800"/>
              <a:ext cx="76032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85046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4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C649-5B68-479A-8ECC-EBBFE33B0918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670E9-27A6-4B8D-A5FB-F08A133C9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5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grpSp>
        <p:nvGrpSpPr>
          <p:cNvPr id="4406" name=""/>
          <p:cNvGrpSpPr/>
          <p:nvPr/>
        </p:nvGrpSpPr>
        <p:grpSpPr>
          <a:xfrm>
            <a:off x="50760" y="895320"/>
            <a:ext cx="9167760" cy="5565960"/>
            <a:chOff x="50760" y="895320"/>
            <a:chExt cx="9167760" cy="5565960"/>
          </a:xfrm>
        </p:grpSpPr>
        <p:grpSp>
          <p:nvGrpSpPr>
            <p:cNvPr id="4407" name=""/>
            <p:cNvGrpSpPr/>
            <p:nvPr/>
          </p:nvGrpSpPr>
          <p:grpSpPr>
            <a:xfrm>
              <a:off x="188640" y="1235160"/>
              <a:ext cx="7664760" cy="4843440"/>
              <a:chOff x="188640" y="1235160"/>
              <a:chExt cx="7664760" cy="4843440"/>
            </a:xfrm>
          </p:grpSpPr>
          <p:sp>
            <p:nvSpPr>
              <p:cNvPr id="4408" name=""/>
              <p:cNvSpPr/>
              <p:nvPr/>
            </p:nvSpPr>
            <p:spPr>
              <a:xfrm>
                <a:off x="411120" y="1935000"/>
                <a:ext cx="744228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411120" y="602604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411120" y="551484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411120" y="50022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411120" y="44928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411120" y="39798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411120" y="34704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11120" y="29574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411120" y="24462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411120" y="1935000"/>
                <a:ext cx="744228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11120" y="1935000"/>
                <a:ext cx="744228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2465280" y="4363920"/>
                <a:ext cx="93600" cy="1405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2585880" y="5667480"/>
                <a:ext cx="9216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2705040" y="5616720"/>
                <a:ext cx="9360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2825640" y="5641920"/>
                <a:ext cx="9216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2946240" y="5667480"/>
                <a:ext cx="9216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3067200" y="5719680"/>
                <a:ext cx="903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3425760" y="5692680"/>
                <a:ext cx="9360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3546360" y="5743440"/>
                <a:ext cx="921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3665520" y="5743440"/>
                <a:ext cx="921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3786120" y="5538960"/>
                <a:ext cx="9216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390672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4146480" y="5232240"/>
                <a:ext cx="9216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4265640" y="4772160"/>
                <a:ext cx="93600" cy="996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4386240" y="5078520"/>
                <a:ext cx="93600" cy="690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450684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4627440" y="5616720"/>
                <a:ext cx="9072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4746600" y="5462640"/>
                <a:ext cx="9216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4865760" y="5308560"/>
                <a:ext cx="93600" cy="460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4986360" y="5232240"/>
                <a:ext cx="93600" cy="536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106960" y="4951440"/>
                <a:ext cx="92160" cy="817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226120" y="5462640"/>
                <a:ext cx="9360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5346720" y="5538960"/>
                <a:ext cx="9216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5467320" y="5719680"/>
                <a:ext cx="921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5587920" y="5719680"/>
                <a:ext cx="9072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582624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5946840" y="5591160"/>
                <a:ext cx="9360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6067440" y="5437080"/>
                <a:ext cx="92160" cy="331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6186600" y="5743440"/>
                <a:ext cx="918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6907320" y="5743440"/>
                <a:ext cx="918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7027920" y="5719680"/>
                <a:ext cx="90360" cy="49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7386480" y="5743440"/>
                <a:ext cx="9396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7626240" y="5743440"/>
                <a:ext cx="9360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7746840" y="5591160"/>
                <a:ext cx="9216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11120" y="5769000"/>
                <a:ext cx="744228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V="1">
                <a:off x="53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V="1">
                <a:off x="65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77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89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1011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113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1251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137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V="1">
                <a:off x="149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V="1">
                <a:off x="161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V="1">
                <a:off x="1731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V="1">
                <a:off x="185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197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209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2211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233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245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257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V="1">
                <a:off x="269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V="1">
                <a:off x="281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V="1">
                <a:off x="293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V="1">
                <a:off x="305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3171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3292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341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353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365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3772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V="1">
                <a:off x="389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V="1">
                <a:off x="401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V="1">
                <a:off x="413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V="1">
                <a:off x="425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7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49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61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73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85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97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V="1">
                <a:off x="5092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V="1">
                <a:off x="5211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V="1">
                <a:off x="533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V="1">
                <a:off x="545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557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569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581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5932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6053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617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V="1">
                <a:off x="629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V="1">
                <a:off x="641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V="1">
                <a:off x="6534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V="1">
                <a:off x="6653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6772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6892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7013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7132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7253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7373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V="1">
                <a:off x="749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V="1">
                <a:off x="7612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 flipV="1">
                <a:off x="7732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 flipV="1">
                <a:off x="7853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68648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rot="16200000">
                <a:off x="4330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rot="16200000">
                <a:off x="5540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rot="16200000">
                <a:off x="674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rot="16200000">
                <a:off x="795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rot="16200000">
                <a:off x="914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rot="16200000">
                <a:off x="10350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rot="16200000">
                <a:off x="1153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rot="16200000">
                <a:off x="1274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rot="16200000">
                <a:off x="1393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rot="16200000">
                <a:off x="1486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rot="16200000">
                <a:off x="1607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rot="16200000">
                <a:off x="17276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rot="16200000">
                <a:off x="1846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rot="16200000">
                <a:off x="1967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rot="16200000">
                <a:off x="20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rot="16200000">
                <a:off x="220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rot="16200000">
                <a:off x="232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rot="16200000">
                <a:off x="2448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rot="16200000">
                <a:off x="256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rot="16200000">
                <a:off x="268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rot="16200000">
                <a:off x="280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rot="16200000">
                <a:off x="2927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rot="16200000">
                <a:off x="3048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rot="16200000">
                <a:off x="3169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rot="16200000">
                <a:off x="328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rot="16200000">
                <a:off x="3408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rot="16200000">
                <a:off x="3529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rot="16200000">
                <a:off x="36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rot="16200000">
                <a:off x="376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rot="16200000">
                <a:off x="388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rot="16200000">
                <a:off x="400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rot="16200000">
                <a:off x="4157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rot="16200000">
                <a:off x="4278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rot="16200000">
                <a:off x="43956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rot="16200000">
                <a:off x="4516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rot="16200000">
                <a:off x="4636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rot="16200000">
                <a:off x="47577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rot="16200000">
                <a:off x="48765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rot="16200000">
                <a:off x="499716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rot="16200000">
                <a:off x="511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rot="16200000">
                <a:off x="5208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rot="16200000">
                <a:off x="5328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rot="16200000">
                <a:off x="544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rot="16200000">
                <a:off x="556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rot="16200000">
                <a:off x="568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rot="16200000">
                <a:off x="5808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rot="16200000">
                <a:off x="592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rot="16200000">
                <a:off x="6048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rot="16200000">
                <a:off x="6169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rot="16200000">
                <a:off x="6289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rot="16200000">
                <a:off x="6409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rot="16200000">
                <a:off x="6529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rot="16200000">
                <a:off x="6650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rot="16200000">
                <a:off x="6770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rot="16200000">
                <a:off x="6888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rot="16200000">
                <a:off x="7009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rot="16200000">
                <a:off x="7129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rot="16200000">
                <a:off x="7250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rot="16200000">
                <a:off x="73695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rot="16200000">
                <a:off x="74901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rot="16200000">
                <a:off x="7610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rot="16200000">
                <a:off x="77299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31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652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714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8920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1011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11318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12510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13716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14922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1612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8" name=""/>
            <p:cNvSpPr/>
            <p:nvPr/>
          </p:nvSpPr>
          <p:spPr>
            <a:xfrm>
              <a:off x="1731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9" name=""/>
            <p:cNvSpPr/>
            <p:nvPr/>
          </p:nvSpPr>
          <p:spPr>
            <a:xfrm>
              <a:off x="185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0" name=""/>
            <p:cNvSpPr/>
            <p:nvPr/>
          </p:nvSpPr>
          <p:spPr>
            <a:xfrm>
              <a:off x="197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1" name=""/>
            <p:cNvSpPr/>
            <p:nvPr/>
          </p:nvSpPr>
          <p:spPr>
            <a:xfrm>
              <a:off x="209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"/>
            <p:cNvSpPr/>
            <p:nvPr/>
          </p:nvSpPr>
          <p:spPr>
            <a:xfrm>
              <a:off x="2211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3" name=""/>
            <p:cNvSpPr/>
            <p:nvPr/>
          </p:nvSpPr>
          <p:spPr>
            <a:xfrm>
              <a:off x="2332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4" name=""/>
            <p:cNvSpPr/>
            <p:nvPr/>
          </p:nvSpPr>
          <p:spPr>
            <a:xfrm>
              <a:off x="245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"/>
            <p:cNvSpPr/>
            <p:nvPr/>
          </p:nvSpPr>
          <p:spPr>
            <a:xfrm>
              <a:off x="257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6" name=""/>
            <p:cNvSpPr/>
            <p:nvPr/>
          </p:nvSpPr>
          <p:spPr>
            <a:xfrm>
              <a:off x="269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7" name=""/>
            <p:cNvSpPr/>
            <p:nvPr/>
          </p:nvSpPr>
          <p:spPr>
            <a:xfrm>
              <a:off x="281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"/>
            <p:cNvSpPr/>
            <p:nvPr/>
          </p:nvSpPr>
          <p:spPr>
            <a:xfrm>
              <a:off x="293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9" name=""/>
            <p:cNvSpPr/>
            <p:nvPr/>
          </p:nvSpPr>
          <p:spPr>
            <a:xfrm>
              <a:off x="305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0" name=""/>
            <p:cNvSpPr/>
            <p:nvPr/>
          </p:nvSpPr>
          <p:spPr>
            <a:xfrm>
              <a:off x="3171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"/>
            <p:cNvSpPr/>
            <p:nvPr/>
          </p:nvSpPr>
          <p:spPr>
            <a:xfrm>
              <a:off x="3292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"/>
            <p:cNvSpPr/>
            <p:nvPr/>
          </p:nvSpPr>
          <p:spPr>
            <a:xfrm>
              <a:off x="341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"/>
            <p:cNvSpPr/>
            <p:nvPr/>
          </p:nvSpPr>
          <p:spPr>
            <a:xfrm>
              <a:off x="353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"/>
            <p:cNvSpPr/>
            <p:nvPr/>
          </p:nvSpPr>
          <p:spPr>
            <a:xfrm>
              <a:off x="3651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"/>
            <p:cNvSpPr/>
            <p:nvPr/>
          </p:nvSpPr>
          <p:spPr>
            <a:xfrm>
              <a:off x="3772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"/>
            <p:cNvSpPr/>
            <p:nvPr/>
          </p:nvSpPr>
          <p:spPr>
            <a:xfrm>
              <a:off x="389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"/>
            <p:cNvSpPr/>
            <p:nvPr/>
          </p:nvSpPr>
          <p:spPr>
            <a:xfrm>
              <a:off x="401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"/>
            <p:cNvSpPr/>
            <p:nvPr/>
          </p:nvSpPr>
          <p:spPr>
            <a:xfrm>
              <a:off x="425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"/>
            <p:cNvSpPr/>
            <p:nvPr/>
          </p:nvSpPr>
          <p:spPr>
            <a:xfrm>
              <a:off x="4371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"/>
            <p:cNvSpPr/>
            <p:nvPr/>
          </p:nvSpPr>
          <p:spPr>
            <a:xfrm>
              <a:off x="449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1" name=""/>
            <p:cNvSpPr/>
            <p:nvPr/>
          </p:nvSpPr>
          <p:spPr>
            <a:xfrm>
              <a:off x="4613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2" name=""/>
            <p:cNvSpPr/>
            <p:nvPr/>
          </p:nvSpPr>
          <p:spPr>
            <a:xfrm>
              <a:off x="473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"/>
            <p:cNvSpPr/>
            <p:nvPr/>
          </p:nvSpPr>
          <p:spPr>
            <a:xfrm>
              <a:off x="485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"/>
            <p:cNvSpPr/>
            <p:nvPr/>
          </p:nvSpPr>
          <p:spPr>
            <a:xfrm>
              <a:off x="4973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"/>
            <p:cNvSpPr/>
            <p:nvPr/>
          </p:nvSpPr>
          <p:spPr>
            <a:xfrm>
              <a:off x="5092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"/>
            <p:cNvSpPr/>
            <p:nvPr/>
          </p:nvSpPr>
          <p:spPr>
            <a:xfrm>
              <a:off x="5211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7" name=""/>
            <p:cNvSpPr/>
            <p:nvPr/>
          </p:nvSpPr>
          <p:spPr>
            <a:xfrm>
              <a:off x="533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8" name=""/>
            <p:cNvSpPr/>
            <p:nvPr/>
          </p:nvSpPr>
          <p:spPr>
            <a:xfrm>
              <a:off x="5452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5573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569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581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5932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6053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"/>
            <p:cNvSpPr/>
            <p:nvPr/>
          </p:nvSpPr>
          <p:spPr>
            <a:xfrm>
              <a:off x="617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"/>
            <p:cNvSpPr/>
            <p:nvPr/>
          </p:nvSpPr>
          <p:spPr>
            <a:xfrm>
              <a:off x="629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6" name=""/>
            <p:cNvSpPr/>
            <p:nvPr/>
          </p:nvSpPr>
          <p:spPr>
            <a:xfrm>
              <a:off x="6413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7" name=""/>
            <p:cNvSpPr/>
            <p:nvPr/>
          </p:nvSpPr>
          <p:spPr>
            <a:xfrm>
              <a:off x="6534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6653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772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0" name=""/>
            <p:cNvSpPr/>
            <p:nvPr/>
          </p:nvSpPr>
          <p:spPr>
            <a:xfrm>
              <a:off x="6892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1" name=""/>
            <p:cNvSpPr/>
            <p:nvPr/>
          </p:nvSpPr>
          <p:spPr>
            <a:xfrm>
              <a:off x="7013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2" name=""/>
            <p:cNvSpPr/>
            <p:nvPr/>
          </p:nvSpPr>
          <p:spPr>
            <a:xfrm>
              <a:off x="7132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3" name=""/>
            <p:cNvSpPr/>
            <p:nvPr/>
          </p:nvSpPr>
          <p:spPr>
            <a:xfrm>
              <a:off x="7253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"/>
            <p:cNvSpPr/>
            <p:nvPr/>
          </p:nvSpPr>
          <p:spPr>
            <a:xfrm>
              <a:off x="7373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"/>
            <p:cNvSpPr/>
            <p:nvPr/>
          </p:nvSpPr>
          <p:spPr>
            <a:xfrm>
              <a:off x="749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"/>
            <p:cNvSpPr/>
            <p:nvPr/>
          </p:nvSpPr>
          <p:spPr>
            <a:xfrm>
              <a:off x="7612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"/>
            <p:cNvSpPr/>
            <p:nvPr/>
          </p:nvSpPr>
          <p:spPr>
            <a:xfrm>
              <a:off x="7732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"/>
            <p:cNvSpPr/>
            <p:nvPr/>
          </p:nvSpPr>
          <p:spPr>
            <a:xfrm>
              <a:off x="226584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"/>
            <p:cNvSpPr/>
            <p:nvPr/>
          </p:nvSpPr>
          <p:spPr>
            <a:xfrm>
              <a:off x="595836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"/>
            <p:cNvSpPr/>
            <p:nvPr/>
          </p:nvSpPr>
          <p:spPr>
            <a:xfrm>
              <a:off x="785340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"/>
            <p:cNvSpPr/>
            <p:nvPr/>
          </p:nvSpPr>
          <p:spPr>
            <a:xfrm>
              <a:off x="413388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"/>
            <p:cNvSpPr/>
            <p:nvPr/>
          </p:nvSpPr>
          <p:spPr>
            <a:xfrm>
              <a:off x="7956720" y="3981600"/>
              <a:ext cx="126180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799308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5" name=""/>
            <p:cNvSpPr/>
            <p:nvPr/>
          </p:nvSpPr>
          <p:spPr>
            <a:xfrm>
              <a:off x="8101080" y="4005360"/>
              <a:ext cx="10965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47-Av. Hipolito Yrigoye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0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1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2" name=""/>
            <p:cNvSpPr/>
            <p:nvPr/>
          </p:nvSpPr>
          <p:spPr>
            <a:xfrm>
              <a:off x="3873600" y="6297480"/>
              <a:ext cx="27756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392148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415296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420084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6" name=""/>
            <p:cNvSpPr/>
            <p:nvPr/>
          </p:nvSpPr>
          <p:spPr>
            <a:xfrm>
              <a:off x="7956720" y="3790800"/>
              <a:ext cx="126180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7" name=""/>
            <p:cNvSpPr/>
            <p:nvPr/>
          </p:nvSpPr>
          <p:spPr>
            <a:xfrm>
              <a:off x="800604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8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85FB1-AE31-4E6D-BEC5-2BA170CBAD06}" type="slidenum">
              <a:t>2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BCFA0-1C9C-485D-BCE9-FEBD1ED9A1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9" name=""/>
          <p:cNvSpPr/>
          <p:nvPr/>
        </p:nvSpPr>
        <p:spPr>
          <a:xfrm>
            <a:off x="4366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8668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1731960" y="3313080"/>
            <a:ext cx="21600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1512720" y="3098880"/>
            <a:ext cx="21456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1512720" y="3533760"/>
            <a:ext cx="21456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1297080" y="2879640"/>
            <a:ext cx="215640" cy="21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1297080" y="3743280"/>
            <a:ext cx="215640" cy="21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1297080" y="331308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2336760" y="2943360"/>
            <a:ext cx="5453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racias por su at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6D9E8-0409-4A5F-9BBB-0CDFAFF0322D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C32A8-8A84-4F2B-999F-F57EAD6F87E3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Julio-Agost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-112680" y="895320"/>
            <a:ext cx="9192240" cy="5565960"/>
            <a:chOff x="-112680" y="895320"/>
            <a:chExt cx="9192240" cy="5565960"/>
          </a:xfrm>
        </p:grpSpPr>
        <p:grpSp>
          <p:nvGrpSpPr>
            <p:cNvPr id="885" name=""/>
            <p:cNvGrpSpPr/>
            <p:nvPr/>
          </p:nvGrpSpPr>
          <p:grpSpPr>
            <a:xfrm>
              <a:off x="247680" y="1498680"/>
              <a:ext cx="7948440" cy="4257720"/>
              <a:chOff x="247680" y="1498680"/>
              <a:chExt cx="7948440" cy="4257720"/>
            </a:xfrm>
          </p:grpSpPr>
          <p:sp>
            <p:nvSpPr>
              <p:cNvPr id="886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47680" y="490392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7680" y="40528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47680" y="320184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47680" y="235116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47680" y="1498680"/>
                <a:ext cx="794844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47680" y="1498680"/>
                <a:ext cx="7948440" cy="4257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880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17680" y="5518080"/>
                <a:ext cx="99720" cy="23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4620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3280" y="5721480"/>
                <a:ext cx="1015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800360" y="5533920"/>
                <a:ext cx="9828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7080" y="5091120"/>
                <a:ext cx="101880" cy="665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057400" y="5670720"/>
                <a:ext cx="98280" cy="856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1300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441520" y="5738760"/>
                <a:ext cx="9864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594240" y="5721480"/>
                <a:ext cx="9972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2760" y="5415120"/>
                <a:ext cx="1000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85128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978360" y="5721480"/>
                <a:ext cx="100080" cy="34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106880" y="5619600"/>
                <a:ext cx="10008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720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74804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876920" y="5415120"/>
                <a:ext cx="982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05440" y="5278320"/>
                <a:ext cx="98280" cy="478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132520" y="5397480"/>
                <a:ext cx="9972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261040" y="5551560"/>
                <a:ext cx="100080" cy="204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389560" y="5380200"/>
                <a:ext cx="100080" cy="376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518080" y="5584680"/>
                <a:ext cx="9864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646600" y="5262480"/>
                <a:ext cx="98640" cy="493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773680" y="5415120"/>
                <a:ext cx="100080" cy="341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902200" y="5192640"/>
                <a:ext cx="98640" cy="563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031080" y="5465880"/>
                <a:ext cx="98280" cy="290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57800" y="5397480"/>
                <a:ext cx="100080" cy="3589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286680" y="5653080"/>
                <a:ext cx="98280" cy="103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543720" y="5465880"/>
                <a:ext cx="100080" cy="290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672240" y="5499000"/>
                <a:ext cx="98280" cy="257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799320" y="5518080"/>
                <a:ext cx="100080" cy="238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927840" y="5602320"/>
                <a:ext cx="98280" cy="154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056360" y="5533920"/>
                <a:ext cx="9864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183440" y="5533920"/>
                <a:ext cx="100080" cy="2224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311960" y="5619600"/>
                <a:ext cx="98640" cy="1368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40480" y="5432400"/>
                <a:ext cx="98640" cy="32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567560" y="5584680"/>
                <a:ext cx="10152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97880" y="5738760"/>
                <a:ext cx="982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26400" y="5584680"/>
                <a:ext cx="98280" cy="1717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7953480" y="5738760"/>
                <a:ext cx="100080" cy="176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082000" y="5245200"/>
                <a:ext cx="98280" cy="5112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2057400" y="56530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2952720" y="57214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081240" y="57214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748040" y="553392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518080" y="5551560"/>
                <a:ext cx="98640" cy="331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057400" y="5637240"/>
                <a:ext cx="98280" cy="158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237200" y="5584680"/>
                <a:ext cx="9828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363920" y="5738760"/>
                <a:ext cx="10008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492800" y="5703840"/>
                <a:ext cx="98280" cy="52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518080" y="5533920"/>
                <a:ext cx="98640" cy="1764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62080" y="5465880"/>
                <a:ext cx="98280" cy="290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17680" y="5465880"/>
                <a:ext cx="99720" cy="52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46200" y="558468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73280" y="5602320"/>
                <a:ext cx="10152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903240" y="5670720"/>
                <a:ext cx="98640" cy="856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58840" y="5619600"/>
                <a:ext cx="100080" cy="136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057400" y="5619600"/>
                <a:ext cx="98280" cy="176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825640" y="5499000"/>
                <a:ext cx="98640" cy="2574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952720" y="5602320"/>
                <a:ext cx="100080" cy="1191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081240" y="5346720"/>
                <a:ext cx="100080" cy="3747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211560" y="5533920"/>
                <a:ext cx="98280" cy="222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338640" y="5653080"/>
                <a:ext cx="99720" cy="1033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467160" y="5653080"/>
                <a:ext cx="98280" cy="1033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518080" y="5518080"/>
                <a:ext cx="9864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057400" y="5602320"/>
                <a:ext cx="98280" cy="172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211560" y="5518080"/>
                <a:ext cx="98280" cy="1584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518080" y="5499000"/>
                <a:ext cx="98640" cy="19080"/>
              </a:xfrm>
              <a:prstGeom prst="rect">
                <a:avLst/>
              </a:prstGeom>
              <a:solidFill>
                <a:srgbClr val="6600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903240" y="5653080"/>
                <a:ext cx="98640" cy="176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313000" y="5703840"/>
                <a:ext cx="9828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441520" y="5721480"/>
                <a:ext cx="98640" cy="172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11560" y="5465880"/>
                <a:ext cx="98280" cy="522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748040" y="5518080"/>
                <a:ext cx="100080" cy="15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876920" y="5380200"/>
                <a:ext cx="98280" cy="349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132520" y="5364000"/>
                <a:ext cx="99720" cy="334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5465880"/>
                <a:ext cx="98640" cy="3312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646600" y="5192640"/>
                <a:ext cx="98640" cy="69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6286680" y="5637240"/>
                <a:ext cx="98280" cy="1584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056360" y="5346720"/>
                <a:ext cx="98640" cy="18720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183440" y="5450040"/>
                <a:ext cx="100080" cy="83880"/>
              </a:xfrm>
              <a:prstGeom prst="rect">
                <a:avLst/>
              </a:prstGeom>
              <a:solidFill>
                <a:srgbClr val="ff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903240" y="5637240"/>
                <a:ext cx="9864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42960" y="5619600"/>
                <a:ext cx="100080" cy="1368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671480" y="5380200"/>
                <a:ext cx="98640" cy="3762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800360" y="5126040"/>
                <a:ext cx="98280" cy="4078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27080" y="4956120"/>
                <a:ext cx="101880" cy="1350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057400" y="5533920"/>
                <a:ext cx="98280" cy="684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2825640" y="5380200"/>
                <a:ext cx="98640" cy="1188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1560" y="5450040"/>
                <a:ext cx="9828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722760" y="5380200"/>
                <a:ext cx="1000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78360" y="5703840"/>
                <a:ext cx="1000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106880" y="5584680"/>
                <a:ext cx="100080" cy="349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621320" y="573876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876920" y="5346720"/>
                <a:ext cx="98280" cy="334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32520" y="5313240"/>
                <a:ext cx="99720" cy="507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518080" y="5432400"/>
                <a:ext cx="98640" cy="3348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46600" y="5126040"/>
                <a:ext cx="98640" cy="6660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31080" y="5450040"/>
                <a:ext cx="98280" cy="158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6286680" y="5619600"/>
                <a:ext cx="98280" cy="1764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056360" y="5245200"/>
                <a:ext cx="98640" cy="10152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082000" y="5192640"/>
                <a:ext cx="98280" cy="52560"/>
              </a:xfrm>
              <a:prstGeom prst="rect">
                <a:avLst/>
              </a:prstGeom>
              <a:solidFill>
                <a:srgbClr val="0066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62080" y="5210280"/>
                <a:ext cx="98280" cy="255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88800" y="5450040"/>
                <a:ext cx="100080" cy="288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17680" y="5176800"/>
                <a:ext cx="99720" cy="289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646200" y="5518080"/>
                <a:ext cx="98280" cy="66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73280" y="5551560"/>
                <a:ext cx="10152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903240" y="5091120"/>
                <a:ext cx="98640" cy="546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03176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158840" y="5295960"/>
                <a:ext cx="100080" cy="323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287360" y="5450040"/>
                <a:ext cx="9864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415880" y="5670720"/>
                <a:ext cx="98640" cy="85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542960" y="5415120"/>
                <a:ext cx="100080" cy="204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1480" y="5295960"/>
                <a:ext cx="98640" cy="84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800360" y="4989600"/>
                <a:ext cx="98280" cy="1364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927080" y="4886280"/>
                <a:ext cx="101880" cy="69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057400" y="5346720"/>
                <a:ext cx="98280" cy="1872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184480" y="5619600"/>
                <a:ext cx="100080" cy="13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313000" y="5465880"/>
                <a:ext cx="98280" cy="237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441520" y="5602320"/>
                <a:ext cx="9864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568600" y="5653080"/>
                <a:ext cx="100080" cy="103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697120" y="5533920"/>
                <a:ext cx="98640" cy="22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825640" y="5262480"/>
                <a:ext cx="98640" cy="117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952720" y="5432400"/>
                <a:ext cx="100080" cy="169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3081240" y="5108400"/>
                <a:ext cx="100080" cy="23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211560" y="5024520"/>
                <a:ext cx="98280" cy="425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338640" y="5584680"/>
                <a:ext cx="99720" cy="68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467160" y="5602320"/>
                <a:ext cx="9828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94240" y="5670720"/>
                <a:ext cx="99720" cy="50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722760" y="5313240"/>
                <a:ext cx="100080" cy="66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851280" y="5619600"/>
                <a:ext cx="98280" cy="1191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978360" y="5602320"/>
                <a:ext cx="100080" cy="1015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106880" y="5551560"/>
                <a:ext cx="1000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237200" y="5551560"/>
                <a:ext cx="98280" cy="331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363920" y="5703840"/>
                <a:ext cx="100080" cy="34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492800" y="5159520"/>
                <a:ext cx="98280" cy="544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621320" y="5126040"/>
                <a:ext cx="98280" cy="6127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748040" y="4665600"/>
                <a:ext cx="100080" cy="8524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76920" y="4649760"/>
                <a:ext cx="98280" cy="696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05440" y="4683240"/>
                <a:ext cx="98280" cy="595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32520" y="4478400"/>
                <a:ext cx="99720" cy="8348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261040" y="5245200"/>
                <a:ext cx="100080" cy="306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389560" y="4343400"/>
                <a:ext cx="100080" cy="103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518080" y="4938840"/>
                <a:ext cx="98640" cy="4935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646600" y="4257720"/>
                <a:ext cx="98640" cy="868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73680" y="4649760"/>
                <a:ext cx="100080" cy="7653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902200" y="4343400"/>
                <a:ext cx="98640" cy="849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031080" y="4802040"/>
                <a:ext cx="98280" cy="6480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157800" y="4870440"/>
                <a:ext cx="100080" cy="5270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286680" y="5210280"/>
                <a:ext cx="98280" cy="4093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415200" y="4989600"/>
                <a:ext cx="100080" cy="7668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3720" y="4579920"/>
                <a:ext cx="100080" cy="885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672240" y="4784760"/>
                <a:ext cx="98280" cy="7142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799320" y="4819680"/>
                <a:ext cx="100080" cy="6984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927840" y="5040360"/>
                <a:ext cx="9828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056360" y="5024520"/>
                <a:ext cx="98640" cy="2206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183440" y="4784760"/>
                <a:ext cx="100080" cy="6652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11960" y="5143680"/>
                <a:ext cx="98640" cy="47592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40480" y="4870440"/>
                <a:ext cx="98640" cy="5619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567560" y="5126040"/>
                <a:ext cx="101520" cy="45864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697880" y="5364000"/>
                <a:ext cx="98280" cy="37476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826400" y="5518080"/>
                <a:ext cx="98280" cy="6660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953480" y="5584680"/>
                <a:ext cx="100080" cy="1540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8082000" y="4784760"/>
                <a:ext cx="98280" cy="407880"/>
              </a:xfrm>
              <a:prstGeom prst="rect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903240" y="5073480"/>
                <a:ext cx="9864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081240" y="5073480"/>
                <a:ext cx="100080" cy="349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11560" y="5005440"/>
                <a:ext cx="98280" cy="190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338640" y="5551560"/>
                <a:ext cx="9972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492800" y="5143680"/>
                <a:ext cx="98280" cy="158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876920" y="4632480"/>
                <a:ext cx="98280" cy="172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286680" y="5192640"/>
                <a:ext cx="98280" cy="176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415200" y="4853160"/>
                <a:ext cx="100080" cy="1364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543720" y="4002120"/>
                <a:ext cx="100080" cy="5778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672240" y="4597560"/>
                <a:ext cx="98280" cy="1872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799320" y="4530600"/>
                <a:ext cx="100080" cy="2890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27840" y="5024520"/>
                <a:ext cx="98280" cy="1584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056360" y="4956120"/>
                <a:ext cx="98640" cy="6840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83440" y="4751280"/>
                <a:ext cx="100080" cy="3348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697880" y="5330880"/>
                <a:ext cx="982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953480" y="5551560"/>
                <a:ext cx="100080" cy="33120"/>
              </a:xfrm>
              <a:prstGeom prst="rect">
                <a:avLst/>
              </a:prstGeom>
              <a:solidFill>
                <a:srgbClr val="0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62080" y="5159520"/>
                <a:ext cx="982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17680" y="5159520"/>
                <a:ext cx="9972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3081240" y="5057640"/>
                <a:ext cx="100080" cy="158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3338640" y="5518080"/>
                <a:ext cx="9972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594240" y="5450040"/>
                <a:ext cx="99720" cy="2206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722760" y="5278320"/>
                <a:ext cx="10008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3851280" y="5551560"/>
                <a:ext cx="98280" cy="68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3978360" y="5551560"/>
                <a:ext cx="10008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4492800" y="5057640"/>
                <a:ext cx="98280" cy="860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748040" y="4546440"/>
                <a:ext cx="100080" cy="1191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4876920" y="4614840"/>
                <a:ext cx="98280" cy="176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005440" y="4614840"/>
                <a:ext cx="98280" cy="684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32520" y="4427640"/>
                <a:ext cx="99720" cy="50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89560" y="4290840"/>
                <a:ext cx="100080" cy="525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18080" y="4802040"/>
                <a:ext cx="98640" cy="13680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"/>
            <p:cNvGrpSpPr/>
            <p:nvPr/>
          </p:nvGrpSpPr>
          <p:grpSpPr>
            <a:xfrm>
              <a:off x="262080" y="3763800"/>
              <a:ext cx="7918200" cy="1906920"/>
              <a:chOff x="262080" y="3763800"/>
              <a:chExt cx="7918200" cy="1906920"/>
            </a:xfrm>
          </p:grpSpPr>
          <p:sp>
            <p:nvSpPr>
              <p:cNvPr id="1087" name=""/>
              <p:cNvSpPr/>
              <p:nvPr/>
            </p:nvSpPr>
            <p:spPr>
              <a:xfrm>
                <a:off x="5646600" y="4103640"/>
                <a:ext cx="98640" cy="154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031080" y="4784760"/>
                <a:ext cx="98280" cy="172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799320" y="4511520"/>
                <a:ext cx="100080" cy="190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67560" y="5091120"/>
                <a:ext cx="101520" cy="3492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97880" y="5091120"/>
                <a:ext cx="98280" cy="23976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953480" y="5533920"/>
                <a:ext cx="100080" cy="1764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8082000" y="4751280"/>
                <a:ext cx="98280" cy="33480"/>
              </a:xfrm>
              <a:prstGeom prst="rect">
                <a:avLst/>
              </a:prstGeom>
              <a:solidFill>
                <a:srgbClr val="ff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87360" y="5432400"/>
                <a:ext cx="9864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184480" y="5584680"/>
                <a:ext cx="100080" cy="3492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313000" y="5415120"/>
                <a:ext cx="98280" cy="5076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621320" y="4784760"/>
                <a:ext cx="98280" cy="341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05440" y="4597560"/>
                <a:ext cx="98280" cy="172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67560" y="5057640"/>
                <a:ext cx="101520" cy="3348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697880" y="5073480"/>
                <a:ext cx="98280" cy="17640"/>
              </a:xfrm>
              <a:prstGeom prst="rect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88800" y="5415120"/>
                <a:ext cx="10008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903240" y="5040360"/>
                <a:ext cx="9864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158840" y="5278320"/>
                <a:ext cx="100080" cy="176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415880" y="5499000"/>
                <a:ext cx="98640" cy="1717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057400" y="5330880"/>
                <a:ext cx="9828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697120" y="5499000"/>
                <a:ext cx="98640" cy="349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825640" y="5245200"/>
                <a:ext cx="9864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952720" y="5415120"/>
                <a:ext cx="100080" cy="1728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978360" y="5483160"/>
                <a:ext cx="100080" cy="6840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748040" y="4530600"/>
                <a:ext cx="100080" cy="1584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67560" y="5024520"/>
                <a:ext cx="101520" cy="33120"/>
              </a:xfrm>
              <a:prstGeom prst="rect">
                <a:avLst/>
              </a:prstGeom>
              <a:solidFill>
                <a:srgbClr val="00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62080" y="5108400"/>
                <a:ext cx="98280" cy="51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88800" y="5380200"/>
                <a:ext cx="10008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031760" y="541512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158840" y="5108400"/>
                <a:ext cx="10008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287360" y="5262480"/>
                <a:ext cx="98640" cy="169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415880" y="5262480"/>
                <a:ext cx="98640" cy="2365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57400" y="5210280"/>
                <a:ext cx="98280" cy="1206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84480" y="555156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697120" y="5364000"/>
                <a:ext cx="98640" cy="1350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825640" y="4683240"/>
                <a:ext cx="98640" cy="5619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952720" y="5040360"/>
                <a:ext cx="100080" cy="374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978360" y="545004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21320" y="4718160"/>
                <a:ext cx="98280" cy="666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748040" y="4444920"/>
                <a:ext cx="100080" cy="856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76920" y="4511520"/>
                <a:ext cx="98280" cy="1033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005440" y="457992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389560" y="4257720"/>
                <a:ext cx="100080" cy="331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518080" y="476712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646600" y="3882960"/>
                <a:ext cx="98640" cy="2206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773680" y="4511520"/>
                <a:ext cx="100080" cy="138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157800" y="4751280"/>
                <a:ext cx="100080" cy="1191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286680" y="5108400"/>
                <a:ext cx="98280" cy="842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43720" y="3933720"/>
                <a:ext cx="100080" cy="6840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672240" y="4579920"/>
                <a:ext cx="98280" cy="176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799320" y="4495680"/>
                <a:ext cx="100080" cy="1584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056360" y="4921200"/>
                <a:ext cx="98640" cy="3492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40480" y="4819680"/>
                <a:ext cx="98640" cy="5076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67560" y="5005440"/>
                <a:ext cx="101520" cy="19080"/>
              </a:xfrm>
              <a:prstGeom prst="rect">
                <a:avLst/>
              </a:prstGeom>
              <a:solidFill>
                <a:srgbClr val="800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3211560" y="4989600"/>
                <a:ext cx="98280" cy="1584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646600" y="3865680"/>
                <a:ext cx="98640" cy="1728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543720" y="3882960"/>
                <a:ext cx="100080" cy="50760"/>
              </a:xfrm>
              <a:prstGeom prst="rect">
                <a:avLst/>
              </a:prstGeom>
              <a:solidFill>
                <a:srgbClr val="8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3594240" y="5364000"/>
                <a:ext cx="99720" cy="860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722760" y="4903920"/>
                <a:ext cx="100080" cy="37440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8080" y="4530600"/>
                <a:ext cx="98640" cy="2365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646600" y="3849840"/>
                <a:ext cx="98640" cy="1584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773680" y="4478400"/>
                <a:ext cx="100080" cy="33120"/>
              </a:xfrm>
              <a:prstGeom prst="rect">
                <a:avLst/>
              </a:prstGeom>
              <a:solidFill>
                <a:srgbClr val="0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17680" y="5143680"/>
                <a:ext cx="99720" cy="1584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6200" y="5499000"/>
                <a:ext cx="98280" cy="19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441520" y="5567400"/>
                <a:ext cx="98640" cy="349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697120" y="5346720"/>
                <a:ext cx="98640" cy="172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3594240" y="5330880"/>
                <a:ext cx="99720" cy="3312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927840" y="5005440"/>
                <a:ext cx="98280" cy="1908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62080" y="5073480"/>
                <a:ext cx="982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17680" y="5126040"/>
                <a:ext cx="9972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46200" y="5450040"/>
                <a:ext cx="98280" cy="489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73280" y="5483160"/>
                <a:ext cx="101520" cy="684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903240" y="4938840"/>
                <a:ext cx="98640" cy="101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031760" y="5262480"/>
                <a:ext cx="98640" cy="152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158840" y="5073480"/>
                <a:ext cx="1000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287360" y="5192640"/>
                <a:ext cx="98640" cy="69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15880" y="5227560"/>
                <a:ext cx="9864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542960" y="5397480"/>
                <a:ext cx="10008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671480" y="5227560"/>
                <a:ext cx="98640" cy="6840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800360" y="4956120"/>
                <a:ext cx="982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57400" y="5176800"/>
                <a:ext cx="982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184480" y="5518080"/>
                <a:ext cx="100080" cy="3348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441520" y="5465880"/>
                <a:ext cx="98640" cy="1015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568600" y="5450040"/>
                <a:ext cx="100080" cy="203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697120" y="5143680"/>
                <a:ext cx="98640" cy="2030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25640" y="4376880"/>
                <a:ext cx="98640" cy="3063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211560" y="4971960"/>
                <a:ext cx="9828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594240" y="4956120"/>
                <a:ext cx="99720" cy="37476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621320" y="4683240"/>
                <a:ext cx="98280" cy="3492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646600" y="3832200"/>
                <a:ext cx="98640" cy="176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697880" y="5057640"/>
                <a:ext cx="98280" cy="15840"/>
              </a:xfrm>
              <a:prstGeom prst="rect">
                <a:avLst/>
              </a:prstGeom>
              <a:solidFill>
                <a:srgbClr val="00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17680" y="5091120"/>
                <a:ext cx="9972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2057400" y="5159520"/>
                <a:ext cx="982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2697120" y="5073480"/>
                <a:ext cx="98640" cy="702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89560" y="4205160"/>
                <a:ext cx="100080" cy="52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031080" y="4751280"/>
                <a:ext cx="98280" cy="334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543720" y="3849840"/>
                <a:ext cx="100080" cy="331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183440" y="4734000"/>
                <a:ext cx="100080" cy="1728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40480" y="4784760"/>
                <a:ext cx="98640" cy="3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67560" y="4989600"/>
                <a:ext cx="101520" cy="1584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17680" y="5024520"/>
                <a:ext cx="99720" cy="6660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43720" y="3832200"/>
                <a:ext cx="10008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440480" y="4767120"/>
                <a:ext cx="9864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67560" y="4971960"/>
                <a:ext cx="101520" cy="1764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7680" y="4971960"/>
                <a:ext cx="99720" cy="5256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46200" y="5432400"/>
                <a:ext cx="98280" cy="1764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389560" y="4017960"/>
                <a:ext cx="100080" cy="18720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518080" y="4392720"/>
                <a:ext cx="98640" cy="137880"/>
              </a:xfrm>
              <a:prstGeom prst="rect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542960" y="5295960"/>
                <a:ext cx="100080" cy="10152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722760" y="4886280"/>
                <a:ext cx="100080" cy="1764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46600" y="3813120"/>
                <a:ext cx="98640" cy="19080"/>
              </a:xfrm>
              <a:prstGeom prst="rect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62080" y="4699080"/>
                <a:ext cx="98280" cy="37440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88800" y="5262480"/>
                <a:ext cx="100080" cy="1177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17680" y="4956120"/>
                <a:ext cx="9972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46200" y="5415120"/>
                <a:ext cx="982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31760" y="5227560"/>
                <a:ext cx="9864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158840" y="505764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87360" y="5159520"/>
                <a:ext cx="9864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057400" y="51436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184480" y="5450040"/>
                <a:ext cx="100080" cy="680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2441520" y="5432400"/>
                <a:ext cx="98640" cy="334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2697120" y="5057640"/>
                <a:ext cx="9864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825640" y="4359240"/>
                <a:ext cx="98640" cy="17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081240" y="5040360"/>
                <a:ext cx="1000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211560" y="4938840"/>
                <a:ext cx="9828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3338640" y="5499000"/>
                <a:ext cx="99720" cy="190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3978360" y="5432400"/>
                <a:ext cx="100080" cy="176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876920" y="44956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005440" y="4564080"/>
                <a:ext cx="982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132520" y="4376880"/>
                <a:ext cx="99720" cy="5076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261040" y="5210280"/>
                <a:ext cx="1000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389560" y="400212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46600" y="3797280"/>
                <a:ext cx="9864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773680" y="4444920"/>
                <a:ext cx="100080" cy="334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902200" y="4273560"/>
                <a:ext cx="98640" cy="69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543720" y="3797280"/>
                <a:ext cx="100080" cy="349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799320" y="4478400"/>
                <a:ext cx="1000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183440" y="4718160"/>
                <a:ext cx="100080" cy="1584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311960" y="5108400"/>
                <a:ext cx="98640" cy="35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697880" y="5024520"/>
                <a:ext cx="98280" cy="3312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826400" y="5499000"/>
                <a:ext cx="98280" cy="190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8082000" y="4734000"/>
                <a:ext cx="98280" cy="17280"/>
              </a:xfrm>
              <a:prstGeom prst="rect">
                <a:avLst/>
              </a:prstGeom>
              <a:solidFill>
                <a:srgbClr val="ff99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62080" y="4649760"/>
                <a:ext cx="98280" cy="493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46200" y="5330880"/>
                <a:ext cx="98280" cy="842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031760" y="519264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1158840" y="498960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1415880" y="5210280"/>
                <a:ext cx="9864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1542960" y="5245200"/>
                <a:ext cx="100080" cy="5076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1927080" y="4870440"/>
                <a:ext cx="1018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184480" y="541512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697120" y="5040360"/>
                <a:ext cx="9864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2825640" y="4343400"/>
                <a:ext cx="9864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081240" y="5024520"/>
                <a:ext cx="100080" cy="158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594240" y="4938840"/>
                <a:ext cx="9972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851280" y="5533920"/>
                <a:ext cx="982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3978360" y="5397480"/>
                <a:ext cx="10008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4106880" y="5518080"/>
                <a:ext cx="100080" cy="334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876920" y="447840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389560" y="3984480"/>
                <a:ext cx="100080" cy="176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773680" y="4376880"/>
                <a:ext cx="100080" cy="6804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031080" y="4734000"/>
                <a:ext cx="982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543720" y="3780000"/>
                <a:ext cx="100080" cy="172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11960" y="5073480"/>
                <a:ext cx="98640" cy="3492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697880" y="5005440"/>
                <a:ext cx="98280" cy="19080"/>
              </a:xfrm>
              <a:prstGeom prst="rect">
                <a:avLst/>
              </a:prstGeom>
              <a:solidFill>
                <a:srgbClr val="cc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3081240" y="5005440"/>
                <a:ext cx="100080" cy="190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492800" y="5040360"/>
                <a:ext cx="98280" cy="1728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902200" y="4257720"/>
                <a:ext cx="98640" cy="1584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46200" y="5313240"/>
                <a:ext cx="9828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927080" y="4853160"/>
                <a:ext cx="101880" cy="172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2697120" y="5024520"/>
                <a:ext cx="9864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81240" y="497196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211560" y="4921200"/>
                <a:ext cx="9828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338640" y="5483160"/>
                <a:ext cx="9972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594240" y="4921200"/>
                <a:ext cx="9972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722760" y="4718160"/>
                <a:ext cx="100080" cy="168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978360" y="5364000"/>
                <a:ext cx="100080" cy="3348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106880" y="5483160"/>
                <a:ext cx="100080" cy="349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492800" y="5024520"/>
                <a:ext cx="9828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518080" y="4376880"/>
                <a:ext cx="98640" cy="158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902200" y="4240080"/>
                <a:ext cx="98640" cy="1764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157800" y="4718160"/>
                <a:ext cx="100080" cy="33120"/>
              </a:xfrm>
              <a:prstGeom prst="rect">
                <a:avLst/>
              </a:prstGeom>
              <a:solidFill>
                <a:srgbClr val="3366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1415880" y="5159520"/>
                <a:ext cx="98640" cy="5076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2057400" y="5108400"/>
                <a:ext cx="98280" cy="35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2313000" y="5380200"/>
                <a:ext cx="9828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211560" y="4903920"/>
                <a:ext cx="98280" cy="172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4492800" y="4989600"/>
                <a:ext cx="9828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646600" y="3763800"/>
                <a:ext cx="9864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773680" y="4359240"/>
                <a:ext cx="100080" cy="176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15200" y="4819680"/>
                <a:ext cx="100080" cy="3348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672240" y="4495680"/>
                <a:ext cx="98280" cy="8424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99320" y="4410000"/>
                <a:ext cx="100080" cy="6840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056360" y="4886280"/>
                <a:ext cx="98640" cy="34920"/>
              </a:xfrm>
              <a:prstGeom prst="rect">
                <a:avLst/>
              </a:prstGeom>
              <a:solidFill>
                <a:srgbClr val="33cc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800360" y="4938840"/>
                <a:ext cx="98280" cy="17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2057400" y="5091120"/>
                <a:ext cx="98280" cy="172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2952720" y="4989600"/>
                <a:ext cx="100080" cy="507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467160" y="5465880"/>
                <a:ext cx="98280" cy="1364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492800" y="4956120"/>
                <a:ext cx="98280" cy="3348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902200" y="4189320"/>
                <a:ext cx="98640" cy="5076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031080" y="4699080"/>
                <a:ext cx="98280" cy="3492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953480" y="5518080"/>
                <a:ext cx="100080" cy="15840"/>
              </a:xfrm>
              <a:prstGeom prst="rect">
                <a:avLst/>
              </a:prstGeom>
              <a:solidFill>
                <a:srgbClr val="99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81240" y="4938840"/>
                <a:ext cx="100080" cy="3312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262080" y="3422520"/>
              <a:ext cx="7918200" cy="2129040"/>
              <a:chOff x="262080" y="3422520"/>
              <a:chExt cx="7918200" cy="2129040"/>
            </a:xfrm>
          </p:grpSpPr>
          <p:sp>
            <p:nvSpPr>
              <p:cNvPr id="1288" name=""/>
              <p:cNvSpPr/>
              <p:nvPr/>
            </p:nvSpPr>
            <p:spPr>
              <a:xfrm>
                <a:off x="4492800" y="4938840"/>
                <a:ext cx="9828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02200" y="4172040"/>
                <a:ext cx="98640" cy="17280"/>
              </a:xfrm>
              <a:prstGeom prst="rect">
                <a:avLst/>
              </a:prstGeom>
              <a:solidFill>
                <a:srgbClr val="ffcc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057400" y="5073480"/>
                <a:ext cx="98280" cy="176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518080" y="4359240"/>
                <a:ext cx="98640" cy="1764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97120" y="5005440"/>
                <a:ext cx="98640" cy="190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902200" y="4103640"/>
                <a:ext cx="98640" cy="6840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799320" y="4392720"/>
                <a:ext cx="100080" cy="17280"/>
              </a:xfrm>
              <a:prstGeom prst="rect">
                <a:avLst/>
              </a:prstGeom>
              <a:solidFill>
                <a:srgbClr val="ff66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158840" y="4921200"/>
                <a:ext cx="100080" cy="684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1287360" y="5057640"/>
                <a:ext cx="98640" cy="1018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1415880" y="4956120"/>
                <a:ext cx="98640" cy="2034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927080" y="4819680"/>
                <a:ext cx="1018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081240" y="4767120"/>
                <a:ext cx="100080" cy="1717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211560" y="4767120"/>
                <a:ext cx="98280" cy="13680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3851280" y="5483160"/>
                <a:ext cx="98280" cy="50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748040" y="4410000"/>
                <a:ext cx="100080" cy="3492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876920" y="4444920"/>
                <a:ext cx="98280" cy="3348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132520" y="4290840"/>
                <a:ext cx="99720" cy="86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183440" y="4683240"/>
                <a:ext cx="100080" cy="3492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62080" y="4632480"/>
                <a:ext cx="9828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7680" y="4938840"/>
                <a:ext cx="9972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057400" y="5040360"/>
                <a:ext cx="98280" cy="331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313000" y="5346720"/>
                <a:ext cx="982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441520" y="5415120"/>
                <a:ext cx="9864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697120" y="4938840"/>
                <a:ext cx="98640" cy="666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52720" y="4853160"/>
                <a:ext cx="100080" cy="1364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3081240" y="4546440"/>
                <a:ext cx="100080" cy="2206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3211560" y="4665600"/>
                <a:ext cx="98280" cy="1015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3338640" y="5450040"/>
                <a:ext cx="99720" cy="331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467160" y="5397480"/>
                <a:ext cx="98280" cy="684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594240" y="4665600"/>
                <a:ext cx="99720" cy="2556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3722760" y="4546440"/>
                <a:ext cx="100080" cy="1717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106880" y="5346720"/>
                <a:ext cx="100080" cy="1364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4492800" y="4886280"/>
                <a:ext cx="98280" cy="525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005440" y="4376880"/>
                <a:ext cx="98280" cy="1872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32520" y="4172040"/>
                <a:ext cx="99720" cy="1188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261040" y="5091120"/>
                <a:ext cx="100080" cy="1191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389560" y="3933720"/>
                <a:ext cx="100080" cy="5076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157800" y="4632480"/>
                <a:ext cx="100080" cy="856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15200" y="4802040"/>
                <a:ext cx="100080" cy="1764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672240" y="4478400"/>
                <a:ext cx="98280" cy="172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99320" y="435924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7840" y="4903920"/>
                <a:ext cx="98280" cy="10152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7056360" y="4751280"/>
                <a:ext cx="98640" cy="13500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183440" y="4649760"/>
                <a:ext cx="100080" cy="33480"/>
              </a:xfrm>
              <a:prstGeom prst="rect">
                <a:avLst/>
              </a:prstGeom>
              <a:solidFill>
                <a:srgbClr val="00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62080" y="4614840"/>
                <a:ext cx="982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17680" y="4921200"/>
                <a:ext cx="9972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46200" y="529596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1158840" y="4903920"/>
                <a:ext cx="1000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800360" y="4903920"/>
                <a:ext cx="98280" cy="349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1927080" y="4802040"/>
                <a:ext cx="101880" cy="176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211560" y="4649760"/>
                <a:ext cx="982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3338640" y="5397480"/>
                <a:ext cx="99720" cy="5256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3467160" y="5380200"/>
                <a:ext cx="9828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646600" y="3746520"/>
                <a:ext cx="98640" cy="1728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773680" y="4343400"/>
                <a:ext cx="100080" cy="1584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902200" y="4070520"/>
                <a:ext cx="98640" cy="33120"/>
              </a:xfrm>
              <a:prstGeom prst="rect">
                <a:avLst/>
              </a:prstGeom>
              <a:solidFill>
                <a:srgbClr val="3399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62080" y="4597560"/>
                <a:ext cx="9828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17680" y="4903920"/>
                <a:ext cx="9972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46200" y="5278320"/>
                <a:ext cx="9828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903240" y="4921200"/>
                <a:ext cx="9864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542960" y="5227560"/>
                <a:ext cx="100080" cy="176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27080" y="4767120"/>
                <a:ext cx="101880" cy="34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057400" y="5005440"/>
                <a:ext cx="98280" cy="34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313000" y="5176800"/>
                <a:ext cx="98280" cy="1699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773680" y="4273560"/>
                <a:ext cx="100080" cy="69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902200" y="4037040"/>
                <a:ext cx="9864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543720" y="3730680"/>
                <a:ext cx="100080" cy="4932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799320" y="4325760"/>
                <a:ext cx="100080" cy="334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7183440" y="4632480"/>
                <a:ext cx="100080" cy="1728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11960" y="5057640"/>
                <a:ext cx="98640" cy="15840"/>
              </a:xfrm>
              <a:prstGeom prst="rect">
                <a:avLst/>
              </a:prstGeom>
              <a:solidFill>
                <a:srgbClr val="00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62080" y="4579920"/>
                <a:ext cx="98280" cy="176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17680" y="4886280"/>
                <a:ext cx="99720" cy="176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46200" y="5262480"/>
                <a:ext cx="98280" cy="158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903240" y="4853160"/>
                <a:ext cx="98640" cy="680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1031760" y="5057640"/>
                <a:ext cx="98640" cy="1350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184480" y="5330880"/>
                <a:ext cx="100080" cy="842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568600" y="5397480"/>
                <a:ext cx="100080" cy="5256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697120" y="4870440"/>
                <a:ext cx="98640" cy="684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825640" y="4308480"/>
                <a:ext cx="98640" cy="3492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952720" y="4632480"/>
                <a:ext cx="100080" cy="2206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081240" y="4495680"/>
                <a:ext cx="100080" cy="5076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3211560" y="4597560"/>
                <a:ext cx="98280" cy="522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3467160" y="5364000"/>
                <a:ext cx="98280" cy="1620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773680" y="4189320"/>
                <a:ext cx="100080" cy="842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902200" y="4017960"/>
                <a:ext cx="98640" cy="1908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0480" y="4751280"/>
                <a:ext cx="98640" cy="1584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567560" y="4938840"/>
                <a:ext cx="101520" cy="33120"/>
              </a:xfrm>
              <a:prstGeom prst="rect">
                <a:avLst/>
              </a:prstGeom>
              <a:solidFill>
                <a:srgbClr val="33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62080" y="4511520"/>
                <a:ext cx="98280" cy="684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17680" y="4870440"/>
                <a:ext cx="99720" cy="158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46200" y="5245200"/>
                <a:ext cx="982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1927080" y="4308480"/>
                <a:ext cx="101880" cy="458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2184480" y="5245200"/>
                <a:ext cx="10008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697120" y="4853160"/>
                <a:ext cx="9864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3978360" y="5346720"/>
                <a:ext cx="10008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492800" y="4699080"/>
                <a:ext cx="98280" cy="187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621320" y="4290840"/>
                <a:ext cx="98280" cy="3924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748040" y="4343400"/>
                <a:ext cx="100080" cy="666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005440" y="4052880"/>
                <a:ext cx="98280" cy="3240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132520" y="4070520"/>
                <a:ext cx="99720" cy="101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389560" y="3576600"/>
                <a:ext cx="100080" cy="3571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518080" y="4273560"/>
                <a:ext cx="9864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646600" y="3711600"/>
                <a:ext cx="9864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773680" y="4103640"/>
                <a:ext cx="10008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902200" y="3559320"/>
                <a:ext cx="98640" cy="4586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157800" y="4597560"/>
                <a:ext cx="100080" cy="349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286680" y="4989600"/>
                <a:ext cx="98280" cy="1188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799320" y="4257720"/>
                <a:ext cx="100080" cy="6804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311960" y="5040360"/>
                <a:ext cx="98640" cy="172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440480" y="4699080"/>
                <a:ext cx="98640" cy="5220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567560" y="4853160"/>
                <a:ext cx="101520" cy="856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697880" y="4971960"/>
                <a:ext cx="98280" cy="334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826400" y="5262480"/>
                <a:ext cx="98280" cy="236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953480" y="5364000"/>
                <a:ext cx="100080" cy="15408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082000" y="4632480"/>
                <a:ext cx="98280" cy="101520"/>
              </a:xfrm>
              <a:prstGeom prst="rect">
                <a:avLst/>
              </a:prstGeom>
              <a:solidFill>
                <a:srgbClr val="99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1158840" y="488628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1800360" y="488628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184480" y="5210280"/>
                <a:ext cx="100080" cy="3492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722760" y="4478400"/>
                <a:ext cx="100080" cy="680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4748040" y="4290840"/>
                <a:ext cx="100080" cy="525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415200" y="4784760"/>
                <a:ext cx="1000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799320" y="4240080"/>
                <a:ext cx="1000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826400" y="5245200"/>
                <a:ext cx="98280" cy="172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8082000" y="4614840"/>
                <a:ext cx="98280" cy="1764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903240" y="4836960"/>
                <a:ext cx="9864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1158840" y="4819680"/>
                <a:ext cx="100080" cy="666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1542960" y="5210280"/>
                <a:ext cx="1000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2184480" y="5176800"/>
                <a:ext cx="100080" cy="334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697120" y="4836960"/>
                <a:ext cx="9864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467160" y="5346720"/>
                <a:ext cx="982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722760" y="4392720"/>
                <a:ext cx="100080" cy="856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851280" y="5465880"/>
                <a:ext cx="98280" cy="1728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415200" y="4767120"/>
                <a:ext cx="100080" cy="176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799320" y="4224240"/>
                <a:ext cx="100080" cy="158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567560" y="4836960"/>
                <a:ext cx="101520" cy="1620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26400" y="5227560"/>
                <a:ext cx="98280" cy="176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8082000" y="4530600"/>
                <a:ext cx="98280" cy="84240"/>
              </a:xfrm>
              <a:prstGeom prst="rect">
                <a:avLst/>
              </a:prstGeom>
              <a:solidFill>
                <a:srgbClr val="3333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388800" y="5245200"/>
                <a:ext cx="1000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46200" y="5210280"/>
                <a:ext cx="98280" cy="349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903240" y="4819680"/>
                <a:ext cx="9864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158840" y="480204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800360" y="487044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927080" y="4290840"/>
                <a:ext cx="1018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184480" y="5143680"/>
                <a:ext cx="10008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313000" y="5159520"/>
                <a:ext cx="982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25640" y="4290840"/>
                <a:ext cx="9864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952720" y="4511520"/>
                <a:ext cx="100080" cy="12096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081240" y="4478400"/>
                <a:ext cx="1000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211560" y="4546440"/>
                <a:ext cx="98280" cy="51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594240" y="4632480"/>
                <a:ext cx="9972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722760" y="4343400"/>
                <a:ext cx="100080" cy="493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492800" y="468324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9560" y="3543480"/>
                <a:ext cx="100080" cy="3312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902200" y="3422520"/>
                <a:ext cx="98640" cy="13680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415200" y="4751280"/>
                <a:ext cx="1000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799320" y="4205160"/>
                <a:ext cx="100080" cy="190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183440" y="4614840"/>
                <a:ext cx="100080" cy="176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311960" y="4956120"/>
                <a:ext cx="98640" cy="842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440480" y="4683240"/>
                <a:ext cx="9864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697880" y="4956120"/>
                <a:ext cx="98280" cy="1584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826400" y="5210280"/>
                <a:ext cx="98280" cy="17280"/>
              </a:xfrm>
              <a:prstGeom prst="rect">
                <a:avLst/>
              </a:prstGeom>
              <a:solidFill>
                <a:srgbClr val="33333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031760" y="5040360"/>
                <a:ext cx="9864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158840" y="478476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800360" y="4836960"/>
                <a:ext cx="98280" cy="33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7080" y="4273560"/>
                <a:ext cx="1018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2184480" y="5108400"/>
                <a:ext cx="100080" cy="35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3594240" y="4614840"/>
                <a:ext cx="9972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722760" y="4308480"/>
                <a:ext cx="1000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4876920" y="4410000"/>
                <a:ext cx="98280" cy="349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389560" y="3524400"/>
                <a:ext cx="100080" cy="190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518080" y="4037040"/>
                <a:ext cx="98640" cy="236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646600" y="3695760"/>
                <a:ext cx="9864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773680" y="408636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415200" y="4734000"/>
                <a:ext cx="100080" cy="172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672240" y="4376880"/>
                <a:ext cx="9828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799320" y="4189320"/>
                <a:ext cx="100080" cy="158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826400" y="5192640"/>
                <a:ext cx="98280" cy="1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62080" y="4495680"/>
                <a:ext cx="98280" cy="1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81240" y="4462560"/>
                <a:ext cx="100080" cy="15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2800" y="4665600"/>
                <a:ext cx="9828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48040" y="4103640"/>
                <a:ext cx="100080" cy="1872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132520" y="4052880"/>
                <a:ext cx="99720" cy="17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799320" y="4156200"/>
                <a:ext cx="100080" cy="33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62080" y="4462560"/>
                <a:ext cx="9828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88800" y="5192640"/>
                <a:ext cx="100080" cy="525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903240" y="4802040"/>
                <a:ext cx="9864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031760" y="5005440"/>
                <a:ext cx="98640" cy="34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158840" y="476712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287360" y="504036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415880" y="493884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542960" y="519264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800360" y="4819680"/>
                <a:ext cx="9828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27080" y="4257720"/>
                <a:ext cx="1018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2057400" y="4956120"/>
                <a:ext cx="98280" cy="493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441520" y="5330880"/>
                <a:ext cx="98640" cy="842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568600" y="5330880"/>
                <a:ext cx="100080" cy="66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81240" y="444492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106880" y="5330880"/>
                <a:ext cx="100080" cy="158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237200" y="5533920"/>
                <a:ext cx="982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492800" y="4614840"/>
                <a:ext cx="982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621320" y="4240080"/>
                <a:ext cx="982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5200" y="1438200"/>
              <a:ext cx="8170920" cy="4498920"/>
              <a:chOff x="25200" y="1438200"/>
              <a:chExt cx="8170920" cy="4498920"/>
            </a:xfrm>
          </p:grpSpPr>
          <p:sp>
            <p:nvSpPr>
              <p:cNvPr id="1489" name=""/>
              <p:cNvSpPr/>
              <p:nvPr/>
            </p:nvSpPr>
            <p:spPr>
              <a:xfrm>
                <a:off x="4748040" y="4052880"/>
                <a:ext cx="100080" cy="507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646600" y="3660840"/>
                <a:ext cx="98640" cy="349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902200" y="3405240"/>
                <a:ext cx="98640" cy="172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799320" y="4138560"/>
                <a:ext cx="100080" cy="1764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7056360" y="4718160"/>
                <a:ext cx="98640" cy="3312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311960" y="4903920"/>
                <a:ext cx="98640" cy="522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542960" y="5143680"/>
                <a:ext cx="100080" cy="489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671480" y="519264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800360" y="4579920"/>
                <a:ext cx="98280" cy="2397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2568600" y="5192640"/>
                <a:ext cx="100080" cy="13824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697120" y="4802040"/>
                <a:ext cx="98640" cy="349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2825640" y="4273560"/>
                <a:ext cx="98640" cy="172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952720" y="4257720"/>
                <a:ext cx="100080" cy="253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081240" y="4325760"/>
                <a:ext cx="100080" cy="11916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211560" y="4427640"/>
                <a:ext cx="98280" cy="11880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978360" y="5192640"/>
                <a:ext cx="100080" cy="154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799320" y="4119480"/>
                <a:ext cx="100080" cy="1908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247680" y="1498680"/>
                <a:ext cx="0" cy="4257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17440" y="5756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17440" y="490392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7440" y="40528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7440" y="3201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17440" y="235116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17440" y="149868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47680" y="5756400"/>
                <a:ext cx="79484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247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V="1">
                <a:off x="376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503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631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760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888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V="1">
                <a:off x="1017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11462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1273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1401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1530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657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V="1">
                <a:off x="1785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914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2043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V="1">
                <a:off x="2171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2298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2427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2556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2682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V="1">
                <a:off x="2811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2940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3067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197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3325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34527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V="1">
                <a:off x="3581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37083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V="1">
                <a:off x="38368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39654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4092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4222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4351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44784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46069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 flipV="1">
                <a:off x="4735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4862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4991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5119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52466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5376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V="1">
                <a:off x="55040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5632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 flipV="1">
                <a:off x="57610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58881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60166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61452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 flipV="1">
                <a:off x="62722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V="1">
                <a:off x="64008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6531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V="1">
                <a:off x="6657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V="1">
                <a:off x="67867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6913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70423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V="1">
                <a:off x="71708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 flipV="1">
                <a:off x="72975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 flipV="1">
                <a:off x="742644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 flipV="1">
                <a:off x="755496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 flipV="1">
                <a:off x="768348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V="1">
                <a:off x="78120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 flipV="1">
                <a:off x="79405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V="1">
                <a:off x="806760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 flipV="1">
                <a:off x="8196120" y="5756040"/>
                <a:ext cx="0" cy="2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37160" y="5694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81360" y="4843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5200" y="39924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5200" y="313992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5200" y="228924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5200" y="143820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rot="16200000">
                <a:off x="27468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rot="16200000">
                <a:off x="40320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rot="16200000">
                <a:off x="52992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rot="16200000">
                <a:off x="65880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rot="16200000">
                <a:off x="7887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rot="16200000">
                <a:off x="91584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rot="16200000">
                <a:off x="10443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 rot="16200000">
                <a:off x="117288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rot="16200000">
                <a:off x="1299960" y="57790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 rot="16200000">
                <a:off x="14004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rot="16200000">
                <a:off x="15292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rot="16200000">
                <a:off x="16560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rot="16200000">
                <a:off x="17848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rot="16200000">
                <a:off x="19148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rot="16200000">
                <a:off x="20433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rot="16200000">
                <a:off x="21722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rot="16200000">
                <a:off x="22989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rot="16200000">
                <a:off x="2427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rot="16200000">
                <a:off x="25563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rot="16200000">
                <a:off x="26830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rot="16200000">
                <a:off x="28119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rot="16200000">
                <a:off x="2940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rot="16200000">
                <a:off x="30690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rot="16200000">
                <a:off x="31975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 rot="16200000">
                <a:off x="33260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rot="16200000">
                <a:off x="34531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rot="16200000">
                <a:off x="35816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16200000">
                <a:off x="37087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16200000">
                <a:off x="38372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 rot="16200000">
                <a:off x="39657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rot="16200000">
                <a:off x="40928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rot="16200000">
                <a:off x="425124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16200000">
                <a:off x="43797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16200000">
                <a:off x="450684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rot="16200000">
                <a:off x="46353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rot="16200000">
                <a:off x="47638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6200000">
                <a:off x="489096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6200000">
                <a:off x="50194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rot="16200000">
                <a:off x="514800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rot="16200000">
                <a:off x="5275080" y="577764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16200000">
                <a:off x="53773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16200000">
                <a:off x="55044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16200000">
                <a:off x="56329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16200000">
                <a:off x="57614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rot="16200000">
                <a:off x="588672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rot="16200000">
                <a:off x="60170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rot="16200000">
                <a:off x="61455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rot="16200000">
                <a:off x="627264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rot="16200000">
                <a:off x="640116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rot="16200000">
                <a:off x="65314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rot="16200000">
                <a:off x="66582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rot="16200000">
                <a:off x="67870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rot="16200000">
                <a:off x="691380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 rot="16200000">
                <a:off x="7042680" y="5807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rot="16200000">
                <a:off x="71712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 rot="16200000">
                <a:off x="72979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 rot="16200000">
                <a:off x="742680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rot="16200000">
                <a:off x="755532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rot="16200000">
                <a:off x="768384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 rot="16200000">
                <a:off x="78123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rot="16200000">
                <a:off x="794088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 rot="16200000">
                <a:off x="8067960" y="58064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376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03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318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60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888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017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1462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273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4018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530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657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785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914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2043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171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298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427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5560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26827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28116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9401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0672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197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3325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34527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5812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37083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8368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39654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0924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43513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47840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6069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7354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86252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4991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119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52466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53769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50404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6325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7610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88816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016680" y="5756400"/>
                <a:ext cx="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61452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7228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4008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5311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6578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7867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9134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70423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1708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729756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42644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55496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68348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8120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94052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8067600" y="5756400"/>
              <a:ext cx="0" cy="18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29480" y="60166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202800" y="60166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4768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19612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222800" y="5756400"/>
              <a:ext cx="0" cy="3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296200" y="1328760"/>
              <a:ext cx="757440" cy="4761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323200" y="1360440"/>
              <a:ext cx="33480" cy="334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375760" y="1347840"/>
              <a:ext cx="681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7-Av. Hipolito Yrigoye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323200" y="1468440"/>
              <a:ext cx="33480" cy="334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80080" y="1455840"/>
              <a:ext cx="419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6-Pueyrred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323200" y="1576440"/>
              <a:ext cx="33480" cy="33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8380440" y="1563840"/>
              <a:ext cx="369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5-Rivadav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323200" y="1684440"/>
              <a:ext cx="33480" cy="331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8380800" y="1673280"/>
              <a:ext cx="264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4-Irigo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23200" y="1792440"/>
              <a:ext cx="33480" cy="349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8380080" y="1781280"/>
              <a:ext cx="54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3-Bartolome Mit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23200" y="1901880"/>
              <a:ext cx="33480" cy="3312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8381160" y="1889280"/>
              <a:ext cx="226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2-Itali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8323200" y="2009880"/>
              <a:ext cx="33480" cy="33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381520" y="1996920"/>
              <a:ext cx="30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1-Cones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8323200" y="2117880"/>
              <a:ext cx="33480" cy="33120"/>
            </a:xfrm>
            <a:prstGeom prst="rect">
              <a:avLst/>
            </a:prstGeom>
            <a:solidFill>
              <a:srgbClr val="99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8382960" y="2104920"/>
              <a:ext cx="261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40-Pard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8323200" y="2225520"/>
              <a:ext cx="33480" cy="33480"/>
            </a:xfrm>
            <a:prstGeom prst="rect">
              <a:avLst/>
            </a:prstGeom>
            <a:solidFill>
              <a:srgbClr val="33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80080" y="2212920"/>
              <a:ext cx="384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9-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323200" y="2333520"/>
              <a:ext cx="33480" cy="33480"/>
            </a:xfrm>
            <a:prstGeom prst="rect">
              <a:avLst/>
            </a:prstGeom>
            <a:solidFill>
              <a:srgbClr val="00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8379360" y="2322360"/>
              <a:ext cx="3985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8-Sourdeaux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323200" y="2441520"/>
              <a:ext cx="33480" cy="3492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8379360" y="2430360"/>
              <a:ext cx="39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7-San Mart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8323200" y="2550960"/>
              <a:ext cx="33480" cy="33480"/>
            </a:xfrm>
            <a:prstGeom prst="rect">
              <a:avLst/>
            </a:prstGeom>
            <a:solidFill>
              <a:srgbClr val="00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378280" y="2538360"/>
              <a:ext cx="640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6-Av. Senador Moro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8323200" y="2658960"/>
              <a:ext cx="33480" cy="3348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379720" y="264636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5-Gral Villeg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323200" y="2766960"/>
              <a:ext cx="33480" cy="334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380080" y="2754360"/>
              <a:ext cx="4273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4-Granader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323200" y="2874960"/>
              <a:ext cx="33480" cy="3348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380800" y="2862360"/>
              <a:ext cx="352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2-Jaurech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323200" y="2982960"/>
              <a:ext cx="33480" cy="331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381880" y="2971800"/>
              <a:ext cx="438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1-Niceto Veg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8323200" y="3090960"/>
              <a:ext cx="33480" cy="3492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382240" y="3079800"/>
              <a:ext cx="3772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1-Necoche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323200" y="3200400"/>
              <a:ext cx="33480" cy="33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380080" y="3187800"/>
              <a:ext cx="5828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30-Benigno Ocamp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323200" y="3308400"/>
              <a:ext cx="33480" cy="331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379000" y="3295800"/>
              <a:ext cx="537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9-Gral. Rodrigue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323200" y="3416400"/>
              <a:ext cx="33480" cy="33120"/>
            </a:xfrm>
            <a:prstGeom prst="rect">
              <a:avLst/>
            </a:prstGeom>
            <a:solidFill>
              <a:srgbClr val="33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380800" y="3403440"/>
              <a:ext cx="349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8-Matienz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323200" y="3524400"/>
              <a:ext cx="33480" cy="33120"/>
            </a:xfrm>
            <a:prstGeom prst="rect">
              <a:avLst/>
            </a:prstGeom>
            <a:solidFill>
              <a:srgbClr val="ff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376120" y="3511440"/>
              <a:ext cx="703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7-Boulevard San Marti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8323200" y="3632040"/>
              <a:ext cx="33480" cy="334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8379720" y="3621240"/>
              <a:ext cx="453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6-Gral. Horn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8323200" y="3740040"/>
              <a:ext cx="33480" cy="34920"/>
            </a:xfrm>
            <a:prstGeom prst="rect">
              <a:avLst/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8376840" y="3728880"/>
              <a:ext cx="6606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5-Lisandro de la Torre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8323200" y="3849840"/>
              <a:ext cx="33480" cy="331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8380800" y="3836880"/>
              <a:ext cx="43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4-Av. Ameri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8323200" y="3957480"/>
              <a:ext cx="33480" cy="334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8380440" y="394488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3-Av. Gral Pa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8323200" y="4065480"/>
              <a:ext cx="33480" cy="334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8379360" y="4052880"/>
              <a:ext cx="480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2-Benito Juarez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8323200" y="417348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380080" y="4160880"/>
              <a:ext cx="4244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1-Nueva York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323200" y="4281480"/>
              <a:ext cx="33480" cy="334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379000" y="4270320"/>
              <a:ext cx="3452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20-Chivilco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323200" y="4389480"/>
              <a:ext cx="33480" cy="34920"/>
            </a:xfrm>
            <a:prstGeom prst="rect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380800" y="4378320"/>
              <a:ext cx="3513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9-Av. Beir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323200" y="4498920"/>
              <a:ext cx="33480" cy="33480"/>
            </a:xfrm>
            <a:prstGeom prst="rect">
              <a:avLst/>
            </a:prstGeom>
            <a:solidFill>
              <a:srgbClr val="0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382240" y="4486320"/>
              <a:ext cx="529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8-Emilio Lamar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323200" y="4606920"/>
              <a:ext cx="33480" cy="3348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383680" y="459432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7-Campan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323200" y="4714920"/>
              <a:ext cx="33480" cy="331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382960" y="4702320"/>
              <a:ext cx="2721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5-Nazc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323200" y="4822920"/>
              <a:ext cx="33480" cy="3312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382600" y="4809960"/>
              <a:ext cx="3099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4-Nogoy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323200" y="4930920"/>
              <a:ext cx="33480" cy="33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8382960" y="4919760"/>
              <a:ext cx="4518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3-Empedrado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323200" y="5038560"/>
              <a:ext cx="33480" cy="33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380080" y="5027760"/>
              <a:ext cx="2826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2-Trell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323200" y="5148360"/>
              <a:ext cx="33480" cy="331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381160" y="5135400"/>
              <a:ext cx="518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1-Jorge Newbery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323200" y="5256360"/>
              <a:ext cx="33480" cy="33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381160" y="5243400"/>
              <a:ext cx="3222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10-Girardot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323200" y="5364000"/>
              <a:ext cx="33480" cy="33480"/>
            </a:xfrm>
            <a:prstGeom prst="rect">
              <a:avLst/>
            </a:prstGeom>
            <a:solidFill>
              <a:srgbClr val="00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379000" y="5351400"/>
              <a:ext cx="4960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8-Av. Corriente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323200" y="5472000"/>
              <a:ext cx="33480" cy="33480"/>
            </a:xfrm>
            <a:prstGeom prst="rect">
              <a:avLst/>
            </a:prstGeom>
            <a:solidFill>
              <a:srgbClr val="ff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382600" y="5459400"/>
              <a:ext cx="317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7-Velazco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323200" y="5580000"/>
              <a:ext cx="33480" cy="33480"/>
            </a:xfrm>
            <a:prstGeom prst="rect">
              <a:avLst/>
            </a:prstGeom>
            <a:solidFill>
              <a:srgbClr val="6600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381880" y="5567400"/>
              <a:ext cx="2779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6-Loyol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323200" y="5688000"/>
              <a:ext cx="33480" cy="33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381880" y="5676840"/>
              <a:ext cx="445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5-Av. Cordob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323200" y="5796000"/>
              <a:ext cx="33480" cy="349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382600" y="5784840"/>
              <a:ext cx="3207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3-Cabrera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323200" y="5905440"/>
              <a:ext cx="33480" cy="33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380440" y="5892840"/>
              <a:ext cx="26604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2-Gorriti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323200" y="6013440"/>
              <a:ext cx="33480" cy="33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8380440" y="6000840"/>
              <a:ext cx="3664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-11268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-6696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189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6792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47680" y="1309680"/>
              <a:ext cx="94464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96280" y="131760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96396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01040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241880" y="6297480"/>
              <a:ext cx="2347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8976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296200" y="1138320"/>
              <a:ext cx="7574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45880" y="115884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3D52A-7507-4A0A-9A88-F9B4B29D5BC9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292A93-A037-42E1-9D42-C9F16C22B8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306360" y="154080"/>
            <a:ext cx="70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Barreras – Septiembre-Octu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247680" y="1498680"/>
            <a:ext cx="7948440" cy="42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247680" y="490392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247680" y="405288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247680" y="320184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247680" y="235116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47680" y="1498680"/>
            <a:ext cx="7948440" cy="0"/>
          </a:xfrm>
          <a:prstGeom prst="line">
            <a:avLst/>
          </a:prstGeom>
          <a:ln w="0">
            <a:solidFill>
              <a:srgbClr val="969696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247680" y="1498680"/>
            <a:ext cx="7948440" cy="425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263520" y="5602320"/>
            <a:ext cx="98280" cy="1540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523800" y="5738760"/>
            <a:ext cx="9864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143496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1566720" y="5738760"/>
            <a:ext cx="9864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695600" y="5686560"/>
            <a:ext cx="101520" cy="69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1827360" y="5670720"/>
            <a:ext cx="98280" cy="85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1955880" y="5686560"/>
            <a:ext cx="101520" cy="69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2087640" y="5653080"/>
            <a:ext cx="98280" cy="103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221760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234792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286848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998800" y="5551560"/>
            <a:ext cx="100080" cy="204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3130560" y="5465880"/>
            <a:ext cx="98280" cy="2905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3259080" y="5619600"/>
            <a:ext cx="101520" cy="1368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390840" y="5637240"/>
            <a:ext cx="98640" cy="1191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3519360" y="5738760"/>
            <a:ext cx="1018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3781440" y="5703840"/>
            <a:ext cx="100080" cy="525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3911760" y="5738760"/>
            <a:ext cx="9972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404172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4302000" y="5738760"/>
            <a:ext cx="10008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4562640" y="5738760"/>
            <a:ext cx="99720" cy="176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4694400" y="5567400"/>
            <a:ext cx="98280" cy="1890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4822920" y="5415120"/>
            <a:ext cx="101520" cy="341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087640" y="5637240"/>
            <a:ext cx="982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5214960" y="5738760"/>
            <a:ext cx="98280" cy="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695600" y="5670720"/>
            <a:ext cx="101520" cy="15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6778800" y="5703840"/>
            <a:ext cx="98280" cy="5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8082000" y="5637240"/>
            <a:ext cx="98280" cy="119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5214960" y="5721480"/>
            <a:ext cx="98280" cy="1728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955880" y="5619600"/>
            <a:ext cx="101520" cy="6696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4041720" y="5721480"/>
            <a:ext cx="100080" cy="172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495468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5475240" y="5721480"/>
            <a:ext cx="100080" cy="3492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6647040" y="5686560"/>
            <a:ext cx="101520" cy="698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6778800" y="5686560"/>
            <a:ext cx="98280" cy="172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7039080" y="5703840"/>
            <a:ext cx="100080" cy="5256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7169040" y="5738760"/>
            <a:ext cx="1000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756144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7821720" y="5738760"/>
            <a:ext cx="98280" cy="1764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784080" y="573876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738520" y="5670720"/>
            <a:ext cx="100080" cy="856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3259080" y="5602320"/>
            <a:ext cx="101520" cy="17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4041720" y="570384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4172040" y="5738760"/>
            <a:ext cx="100080" cy="1764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4302000" y="5686560"/>
            <a:ext cx="100080" cy="5220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4432320" y="5721480"/>
            <a:ext cx="100080" cy="349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7039080" y="5686560"/>
            <a:ext cx="100080" cy="1728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263520" y="5450040"/>
            <a:ext cx="98280" cy="152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92040" y="5584680"/>
            <a:ext cx="10152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523800" y="5686560"/>
            <a:ext cx="98640" cy="52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54120" y="5653080"/>
            <a:ext cx="100080" cy="103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784080" y="5653080"/>
            <a:ext cx="1000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914400" y="5670720"/>
            <a:ext cx="1000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1044720" y="5619600"/>
            <a:ext cx="99720" cy="136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1174680" y="5686560"/>
            <a:ext cx="100080" cy="6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1305000" y="5518080"/>
            <a:ext cx="100080" cy="23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1434960" y="5465880"/>
            <a:ext cx="100080" cy="2379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1566720" y="5567400"/>
            <a:ext cx="98640" cy="171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1695600" y="5450040"/>
            <a:ext cx="101520" cy="220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1827360" y="5533920"/>
            <a:ext cx="98280" cy="136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1955880" y="5210280"/>
            <a:ext cx="101520" cy="409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087640" y="5364000"/>
            <a:ext cx="98280" cy="273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217600" y="5670720"/>
            <a:ext cx="100080" cy="68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347920" y="5637240"/>
            <a:ext cx="100080" cy="101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478240" y="5227560"/>
            <a:ext cx="99720" cy="528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608200" y="5346720"/>
            <a:ext cx="100080" cy="409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2738520" y="5262480"/>
            <a:ext cx="100080" cy="4082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868480" y="5262480"/>
            <a:ext cx="100080" cy="441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998800" y="5210280"/>
            <a:ext cx="100080" cy="341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130560" y="5176800"/>
            <a:ext cx="98280" cy="289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3259080" y="5245200"/>
            <a:ext cx="101520" cy="357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3390840" y="5313240"/>
            <a:ext cx="98640" cy="324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3519360" y="5551560"/>
            <a:ext cx="101880" cy="18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651120" y="5533920"/>
            <a:ext cx="98640" cy="222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781440" y="5245200"/>
            <a:ext cx="100080" cy="458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911760" y="5364000"/>
            <a:ext cx="9972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4041720" y="5533920"/>
            <a:ext cx="100080" cy="16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4172040" y="5584680"/>
            <a:ext cx="100080" cy="15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4302000" y="5346720"/>
            <a:ext cx="100080" cy="33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4432320" y="5364000"/>
            <a:ext cx="100080" cy="357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4562640" y="5584680"/>
            <a:ext cx="99720" cy="154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4694400" y="5364000"/>
            <a:ext cx="98280" cy="203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4822920" y="5262480"/>
            <a:ext cx="101520" cy="152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4954680" y="5551560"/>
            <a:ext cx="98280" cy="1872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5083200" y="5703840"/>
            <a:ext cx="101520" cy="5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5214960" y="5450040"/>
            <a:ext cx="98280" cy="271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5345280" y="5721480"/>
            <a:ext cx="99720" cy="34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5475240" y="5432400"/>
            <a:ext cx="100080" cy="289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5605560" y="5584680"/>
            <a:ext cx="10008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5735520" y="5637240"/>
            <a:ext cx="100080" cy="1191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5865840" y="5397480"/>
            <a:ext cx="10008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5997600" y="5584680"/>
            <a:ext cx="98280" cy="171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6126120" y="5227560"/>
            <a:ext cx="100080" cy="528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6257880" y="5432400"/>
            <a:ext cx="98640" cy="324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6386400" y="5518080"/>
            <a:ext cx="101880" cy="238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6518160" y="5397480"/>
            <a:ext cx="9864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6647040" y="5364000"/>
            <a:ext cx="101520" cy="32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6778800" y="5450040"/>
            <a:ext cx="98280" cy="236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908760" y="5397480"/>
            <a:ext cx="100080" cy="358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039080" y="5499000"/>
            <a:ext cx="100080" cy="187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7169040" y="5364000"/>
            <a:ext cx="100080" cy="374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7299360" y="5499000"/>
            <a:ext cx="100080" cy="25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7429680" y="5415120"/>
            <a:ext cx="99720" cy="3412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7561440" y="5278320"/>
            <a:ext cx="98280" cy="4604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7689960" y="5499000"/>
            <a:ext cx="100080" cy="257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7821720" y="5670720"/>
            <a:ext cx="98280" cy="68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7950240" y="5653080"/>
            <a:ext cx="101520" cy="103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8082000" y="5551560"/>
            <a:ext cx="98280" cy="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784080" y="5619600"/>
            <a:ext cx="100080" cy="33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1305000" y="5483160"/>
            <a:ext cx="10008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1955880" y="5192640"/>
            <a:ext cx="101520" cy="176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259080" y="5210280"/>
            <a:ext cx="10152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390840" y="5210280"/>
            <a:ext cx="98640" cy="1029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4041720" y="5483160"/>
            <a:ext cx="100080" cy="507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954680" y="5499000"/>
            <a:ext cx="98280" cy="525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5345280" y="5686560"/>
            <a:ext cx="99720" cy="3492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908760" y="5380200"/>
            <a:ext cx="100080" cy="172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7039080" y="5364000"/>
            <a:ext cx="100080" cy="13500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7689960" y="5483160"/>
            <a:ext cx="100080" cy="1584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7950240" y="5499000"/>
            <a:ext cx="101520" cy="1540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82000" y="5380200"/>
            <a:ext cx="98280" cy="17136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263520" y="5432400"/>
            <a:ext cx="9828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523800" y="5637240"/>
            <a:ext cx="98640" cy="4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54120" y="5602320"/>
            <a:ext cx="100080" cy="50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914400" y="5313240"/>
            <a:ext cx="100080" cy="35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1044720" y="5584680"/>
            <a:ext cx="99720" cy="349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1305000" y="5432400"/>
            <a:ext cx="100080" cy="50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1434960" y="4751280"/>
            <a:ext cx="100080" cy="714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1566720" y="5450040"/>
            <a:ext cx="98640" cy="1173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1695600" y="5346720"/>
            <a:ext cx="101520" cy="103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1955880" y="5091120"/>
            <a:ext cx="10152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2087640" y="5295960"/>
            <a:ext cx="98280" cy="680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2217600" y="5533920"/>
            <a:ext cx="100080" cy="1368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2347920" y="5533920"/>
            <a:ext cx="100080" cy="1033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2478240" y="4971960"/>
            <a:ext cx="99720" cy="255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3130560" y="5143680"/>
            <a:ext cx="98280" cy="33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3259080" y="5192640"/>
            <a:ext cx="10152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3390840" y="5143680"/>
            <a:ext cx="98640" cy="666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3651120" y="5313240"/>
            <a:ext cx="98640" cy="2206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3781440" y="5176800"/>
            <a:ext cx="100080" cy="6840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694400" y="5278320"/>
            <a:ext cx="98280" cy="856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822920" y="5245200"/>
            <a:ext cx="101520" cy="17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345280" y="5670720"/>
            <a:ext cx="99720" cy="158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865840" y="5380200"/>
            <a:ext cx="100080" cy="172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5997600" y="5483160"/>
            <a:ext cx="98280" cy="1015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6778800" y="5432400"/>
            <a:ext cx="98280" cy="176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299360" y="5483160"/>
            <a:ext cx="100080" cy="1584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7821720" y="5551560"/>
            <a:ext cx="98280" cy="1191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7950240" y="5465880"/>
            <a:ext cx="101520" cy="3312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1044720" y="5567400"/>
            <a:ext cx="99720" cy="1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217600" y="5499000"/>
            <a:ext cx="100080" cy="34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259080" y="5176800"/>
            <a:ext cx="101520" cy="15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390840" y="5073480"/>
            <a:ext cx="98640" cy="70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302000" y="5313240"/>
            <a:ext cx="100080" cy="33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694400" y="5262480"/>
            <a:ext cx="98280" cy="158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5605560" y="5346720"/>
            <a:ext cx="100080" cy="2379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5735520" y="5450040"/>
            <a:ext cx="100080" cy="18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5997600" y="5465880"/>
            <a:ext cx="98280" cy="1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518160" y="5364000"/>
            <a:ext cx="98640" cy="33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1566720" y="5432400"/>
            <a:ext cx="98640" cy="17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1955880" y="5057640"/>
            <a:ext cx="101520" cy="33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478240" y="4938840"/>
            <a:ext cx="9972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3390840" y="5040360"/>
            <a:ext cx="9864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3519360" y="5499000"/>
            <a:ext cx="101880" cy="52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3651120" y="5245200"/>
            <a:ext cx="98640" cy="68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781440" y="5091120"/>
            <a:ext cx="100080" cy="85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5735520" y="5278320"/>
            <a:ext cx="100080" cy="1717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5865840" y="5364000"/>
            <a:ext cx="100080" cy="16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5997600" y="5415120"/>
            <a:ext cx="98280" cy="507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654120" y="5551560"/>
            <a:ext cx="100080" cy="507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784080" y="56023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1044720" y="5483160"/>
            <a:ext cx="99720" cy="842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1174680" y="5670720"/>
            <a:ext cx="100080" cy="158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1305000" y="5397480"/>
            <a:ext cx="1000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434960" y="4683240"/>
            <a:ext cx="100080" cy="680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1566720" y="5380200"/>
            <a:ext cx="98640" cy="52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"/>
          <p:cNvSpPr/>
          <p:nvPr/>
        </p:nvSpPr>
        <p:spPr>
          <a:xfrm>
            <a:off x="1695600" y="5245200"/>
            <a:ext cx="101520" cy="1015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827360" y="5483160"/>
            <a:ext cx="98280" cy="507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955880" y="4836960"/>
            <a:ext cx="101520" cy="220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2087640" y="5192640"/>
            <a:ext cx="98280" cy="103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2217600" y="5330880"/>
            <a:ext cx="100080" cy="168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2347920" y="5313240"/>
            <a:ext cx="100080" cy="220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2998800" y="5192640"/>
            <a:ext cx="1000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3130560" y="5073480"/>
            <a:ext cx="98280" cy="702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3390840" y="4903920"/>
            <a:ext cx="98640" cy="1364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3519360" y="5465880"/>
            <a:ext cx="1018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3781440" y="5057640"/>
            <a:ext cx="100080" cy="33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041720" y="545004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172040" y="555156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302000" y="5278320"/>
            <a:ext cx="1000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4694400" y="5091120"/>
            <a:ext cx="98280" cy="17136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5214960" y="5432400"/>
            <a:ext cx="982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475240" y="5176800"/>
            <a:ext cx="100080" cy="2556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5605560" y="5245200"/>
            <a:ext cx="100080" cy="1015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735520" y="5192640"/>
            <a:ext cx="100080" cy="856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5865840" y="53467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997600" y="5397480"/>
            <a:ext cx="98280" cy="176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6778800" y="5364000"/>
            <a:ext cx="98280" cy="6840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6908760" y="5330880"/>
            <a:ext cx="100080" cy="493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7039080" y="534672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7169040" y="5330880"/>
            <a:ext cx="100080" cy="331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7299360" y="5465880"/>
            <a:ext cx="100080" cy="172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7561440" y="5262480"/>
            <a:ext cx="98280" cy="1584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2998800" y="5176800"/>
            <a:ext cx="1000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130560" y="5057640"/>
            <a:ext cx="982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475240" y="5159520"/>
            <a:ext cx="100080" cy="17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997600" y="5380200"/>
            <a:ext cx="98280" cy="1728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7169040" y="5313240"/>
            <a:ext cx="100080" cy="176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7299360" y="5450040"/>
            <a:ext cx="100080" cy="1584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1434960" y="4649760"/>
            <a:ext cx="100080" cy="334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2087640" y="5024520"/>
            <a:ext cx="98280" cy="168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2347920" y="5176800"/>
            <a:ext cx="100080" cy="1364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2998800" y="5126040"/>
            <a:ext cx="100080" cy="5076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130560" y="5024520"/>
            <a:ext cx="98280" cy="33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302000" y="5262480"/>
            <a:ext cx="100080" cy="158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5083200" y="5686560"/>
            <a:ext cx="101520" cy="1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997600" y="5364000"/>
            <a:ext cx="98280" cy="162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7169040" y="5295960"/>
            <a:ext cx="100080" cy="172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7299360" y="5432400"/>
            <a:ext cx="100080" cy="1764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7821720" y="5465880"/>
            <a:ext cx="98280" cy="8568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434960" y="463248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2347920" y="51595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998800" y="50911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130560" y="5005440"/>
            <a:ext cx="98280" cy="190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172040" y="553392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5997600" y="5346720"/>
            <a:ext cx="982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7169040" y="527832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7299360" y="54151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7429680" y="5397480"/>
            <a:ext cx="9972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7821720" y="5432400"/>
            <a:ext cx="98280" cy="33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98800" y="5040360"/>
            <a:ext cx="100080" cy="50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3130560" y="4989600"/>
            <a:ext cx="982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519360" y="5415120"/>
            <a:ext cx="101880" cy="507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822920" y="5159520"/>
            <a:ext cx="101520" cy="856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954680" y="5415120"/>
            <a:ext cx="98280" cy="838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214960" y="5415120"/>
            <a:ext cx="98280" cy="17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475240" y="5091120"/>
            <a:ext cx="100080" cy="684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605560" y="5176800"/>
            <a:ext cx="100080" cy="684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735520" y="5040360"/>
            <a:ext cx="100080" cy="1522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997600" y="5330880"/>
            <a:ext cx="982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6126120" y="5126040"/>
            <a:ext cx="100080" cy="1015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257880" y="5380200"/>
            <a:ext cx="98640" cy="5220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6518160" y="5330880"/>
            <a:ext cx="98640" cy="3312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7039080" y="5330880"/>
            <a:ext cx="1000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7169040" y="5262480"/>
            <a:ext cx="100080" cy="158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7299360" y="5397480"/>
            <a:ext cx="100080" cy="1764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434960" y="4614840"/>
            <a:ext cx="1000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695600" y="5126040"/>
            <a:ext cx="101520" cy="1191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27360" y="5330880"/>
            <a:ext cx="98280" cy="152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955880" y="4632480"/>
            <a:ext cx="101520" cy="204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2087640" y="4971960"/>
            <a:ext cx="98280" cy="52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2217600" y="5313240"/>
            <a:ext cx="1000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2478240" y="4853160"/>
            <a:ext cx="99720" cy="85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2608200" y="5210280"/>
            <a:ext cx="100080" cy="13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2998800" y="5024520"/>
            <a:ext cx="100080" cy="1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3130560" y="4956120"/>
            <a:ext cx="982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3519360" y="5397480"/>
            <a:ext cx="1018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4432320" y="5278320"/>
            <a:ext cx="100080" cy="85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4562640" y="5567400"/>
            <a:ext cx="9972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694400" y="4903920"/>
            <a:ext cx="98280" cy="1872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822920" y="5108400"/>
            <a:ext cx="101520" cy="51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083200" y="5670720"/>
            <a:ext cx="101520" cy="15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5605560" y="5143680"/>
            <a:ext cx="100080" cy="33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735520" y="4903920"/>
            <a:ext cx="100080" cy="1364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997600" y="5313240"/>
            <a:ext cx="98280" cy="17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6647040" y="5330880"/>
            <a:ext cx="101520" cy="33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039080" y="5210280"/>
            <a:ext cx="100080" cy="120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169040" y="5159520"/>
            <a:ext cx="100080" cy="1029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7299360" y="5380200"/>
            <a:ext cx="10008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429680" y="5330880"/>
            <a:ext cx="99720" cy="66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7821720" y="5415120"/>
            <a:ext cx="98280" cy="17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23800" y="5619600"/>
            <a:ext cx="9864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654120" y="5533920"/>
            <a:ext cx="10008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1305000" y="5313240"/>
            <a:ext cx="100080" cy="8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1695600" y="5108400"/>
            <a:ext cx="10152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1827360" y="5313240"/>
            <a:ext cx="9828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2087640" y="4956120"/>
            <a:ext cx="98280" cy="15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2347920" y="5126040"/>
            <a:ext cx="100080" cy="3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2478240" y="4802040"/>
            <a:ext cx="99720" cy="51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2738520" y="5210280"/>
            <a:ext cx="100080" cy="52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2868480" y="5245200"/>
            <a:ext cx="1000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2998800" y="4989600"/>
            <a:ext cx="1000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130560" y="4938840"/>
            <a:ext cx="982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4562640" y="5551560"/>
            <a:ext cx="99720" cy="15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4694400" y="4836960"/>
            <a:ext cx="98280" cy="66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4822920" y="5091120"/>
            <a:ext cx="10152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>
            <a:off x="5083200" y="5653080"/>
            <a:ext cx="101520" cy="17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5345280" y="5637240"/>
            <a:ext cx="99720" cy="33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5865840" y="5278320"/>
            <a:ext cx="100080" cy="68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6126120" y="5040360"/>
            <a:ext cx="100080" cy="85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6647040" y="5126040"/>
            <a:ext cx="101520" cy="204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6778800" y="5330880"/>
            <a:ext cx="98280" cy="33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6908760" y="5245200"/>
            <a:ext cx="100080" cy="85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7039080" y="5126040"/>
            <a:ext cx="100080" cy="8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7299360" y="5364000"/>
            <a:ext cx="100080" cy="16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7429680" y="5295960"/>
            <a:ext cx="9972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7561440" y="5245200"/>
            <a:ext cx="98280" cy="17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7821720" y="5380200"/>
            <a:ext cx="982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63520" y="5397480"/>
            <a:ext cx="98280" cy="349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1695600" y="5091120"/>
            <a:ext cx="10152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1827360" y="5295960"/>
            <a:ext cx="982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>
            <a:off x="2217600" y="5295960"/>
            <a:ext cx="1000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2738520" y="5176800"/>
            <a:ext cx="100080" cy="3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2868480" y="5159520"/>
            <a:ext cx="100080" cy="85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998800" y="4802040"/>
            <a:ext cx="100080" cy="187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3130560" y="4734000"/>
            <a:ext cx="98280" cy="2048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4302000" y="5245200"/>
            <a:ext cx="1000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562640" y="5533920"/>
            <a:ext cx="99720" cy="17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>
            <a:off x="4694400" y="4819680"/>
            <a:ext cx="98280" cy="17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5345280" y="5584680"/>
            <a:ext cx="99720" cy="52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7821720" y="5364000"/>
            <a:ext cx="98280" cy="1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263520" y="5346720"/>
            <a:ext cx="98280" cy="507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1305000" y="5295960"/>
            <a:ext cx="1000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>
            <a:off x="1695600" y="5073480"/>
            <a:ext cx="10152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1827360" y="5278320"/>
            <a:ext cx="982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2478240" y="4784760"/>
            <a:ext cx="9972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2738520" y="5159520"/>
            <a:ext cx="1000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2868480" y="5143680"/>
            <a:ext cx="10008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3519360" y="5380200"/>
            <a:ext cx="1018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3781440" y="4903920"/>
            <a:ext cx="100080" cy="1537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041720" y="5432400"/>
            <a:ext cx="1000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562640" y="5518080"/>
            <a:ext cx="9972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694400" y="4802040"/>
            <a:ext cx="982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5083200" y="5567400"/>
            <a:ext cx="101520" cy="85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5345280" y="5551560"/>
            <a:ext cx="99720" cy="3312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5735520" y="4886280"/>
            <a:ext cx="10008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5997600" y="5295960"/>
            <a:ext cx="98280" cy="17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7429680" y="5278320"/>
            <a:ext cx="99720" cy="176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7950240" y="5450040"/>
            <a:ext cx="101520" cy="158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>
            <a:off x="654120" y="5432400"/>
            <a:ext cx="100080" cy="101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1695600" y="5057640"/>
            <a:ext cx="10152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827360" y="5262480"/>
            <a:ext cx="982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2738520" y="514368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>
            <a:off x="3911760" y="5346720"/>
            <a:ext cx="99720" cy="172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>
            <a:off x="4302000" y="5227560"/>
            <a:ext cx="100080" cy="176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4562640" y="5499000"/>
            <a:ext cx="99720" cy="190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4694400" y="4784760"/>
            <a:ext cx="98280" cy="172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>
            <a:off x="5345280" y="5518080"/>
            <a:ext cx="99720" cy="334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735520" y="487044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865840" y="5262480"/>
            <a:ext cx="100080" cy="15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7950240" y="5245200"/>
            <a:ext cx="101520" cy="20484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1305000" y="5262480"/>
            <a:ext cx="100080" cy="33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087640" y="4938840"/>
            <a:ext cx="982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2347920" y="5108400"/>
            <a:ext cx="1000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2478240" y="4734000"/>
            <a:ext cx="99720" cy="507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2608200" y="5192640"/>
            <a:ext cx="1000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651120" y="5210280"/>
            <a:ext cx="98640" cy="349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041720" y="5415120"/>
            <a:ext cx="1000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4562640" y="5483160"/>
            <a:ext cx="9972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4694400" y="4683240"/>
            <a:ext cx="98280" cy="101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4822920" y="5073480"/>
            <a:ext cx="10152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5083200" y="5551560"/>
            <a:ext cx="10152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7169040" y="5143680"/>
            <a:ext cx="100080" cy="15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7561440" y="5227560"/>
            <a:ext cx="98280" cy="176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7689960" y="5465880"/>
            <a:ext cx="100080" cy="17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523800" y="5584680"/>
            <a:ext cx="9864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305000" y="5245200"/>
            <a:ext cx="100080" cy="17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1566720" y="5364000"/>
            <a:ext cx="98640" cy="162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1955880" y="4597560"/>
            <a:ext cx="10152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087640" y="490392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217600" y="5278320"/>
            <a:ext cx="100080" cy="1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347920" y="5073480"/>
            <a:ext cx="1000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2478240" y="4699080"/>
            <a:ext cx="9972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2608200" y="5176800"/>
            <a:ext cx="10008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998800" y="4751280"/>
            <a:ext cx="100080" cy="50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3130560" y="469908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3259080" y="5108400"/>
            <a:ext cx="101520" cy="68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781440" y="4886280"/>
            <a:ext cx="100080" cy="176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172040" y="5518080"/>
            <a:ext cx="10008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4822920" y="5057640"/>
            <a:ext cx="101520" cy="158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5214960" y="538020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5865840" y="5176800"/>
            <a:ext cx="1000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6647040" y="5073480"/>
            <a:ext cx="101520" cy="52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6778800" y="5262480"/>
            <a:ext cx="98280" cy="68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6908760" y="5159520"/>
            <a:ext cx="1000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039080" y="5091120"/>
            <a:ext cx="1000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561440" y="5192640"/>
            <a:ext cx="98280" cy="34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7821720" y="5278320"/>
            <a:ext cx="98280" cy="85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1434960" y="4597560"/>
            <a:ext cx="100080" cy="172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1955880" y="4579920"/>
            <a:ext cx="101520" cy="17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041720" y="5380200"/>
            <a:ext cx="100080" cy="349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954680" y="5397480"/>
            <a:ext cx="98280" cy="1764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6778800" y="5227560"/>
            <a:ext cx="98280" cy="349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1955880" y="4564080"/>
            <a:ext cx="101520" cy="158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3519360" y="5364000"/>
            <a:ext cx="101880" cy="162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5997600" y="5192640"/>
            <a:ext cx="98280" cy="103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6126120" y="5005440"/>
            <a:ext cx="100080" cy="349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6257880" y="5330880"/>
            <a:ext cx="98640" cy="49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6647040" y="5057640"/>
            <a:ext cx="101520" cy="158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7039080" y="5073480"/>
            <a:ext cx="100080" cy="176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169040" y="5108400"/>
            <a:ext cx="100080" cy="352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041720" y="5364000"/>
            <a:ext cx="100080" cy="162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5997600" y="5159520"/>
            <a:ext cx="982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6126120" y="4971960"/>
            <a:ext cx="100080" cy="334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6257880" y="4273560"/>
            <a:ext cx="98640" cy="10573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6386400" y="3730680"/>
            <a:ext cx="101880" cy="178740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518160" y="5176800"/>
            <a:ext cx="98640" cy="1540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647040" y="5040360"/>
            <a:ext cx="101520" cy="1728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7039080" y="5057640"/>
            <a:ext cx="100080" cy="15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7299360" y="5330880"/>
            <a:ext cx="1000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263520" y="5330880"/>
            <a:ext cx="98280" cy="1584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955880" y="4462560"/>
            <a:ext cx="101520" cy="1015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2217600" y="5262480"/>
            <a:ext cx="100080" cy="1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>
            <a:off x="4302000" y="5210280"/>
            <a:ext cx="100080" cy="1728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5083200" y="5533920"/>
            <a:ext cx="101520" cy="176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7561440" y="5176800"/>
            <a:ext cx="98280" cy="1584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7689960" y="5397480"/>
            <a:ext cx="100080" cy="684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54120" y="5397480"/>
            <a:ext cx="100080" cy="349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/>
          <p:nvPr/>
        </p:nvSpPr>
        <p:spPr>
          <a:xfrm>
            <a:off x="2478240" y="4649760"/>
            <a:ext cx="99720" cy="4932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694400" y="4665600"/>
            <a:ext cx="98280" cy="1764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4954680" y="5364000"/>
            <a:ext cx="98280" cy="33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1434960" y="4546440"/>
            <a:ext cx="100080" cy="51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2347920" y="5057640"/>
            <a:ext cx="100080" cy="15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3519360" y="5346720"/>
            <a:ext cx="101880" cy="172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822920" y="5005440"/>
            <a:ext cx="101520" cy="5220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7429680" y="5262480"/>
            <a:ext cx="99720" cy="1584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4172040" y="5483160"/>
            <a:ext cx="100080" cy="349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8082000" y="5227560"/>
            <a:ext cx="98280" cy="15264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1174680" y="5619600"/>
            <a:ext cx="100080" cy="5112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1305000" y="5176800"/>
            <a:ext cx="100080" cy="6840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1434960" y="4478400"/>
            <a:ext cx="100080" cy="6804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172040" y="5432400"/>
            <a:ext cx="100080" cy="5076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475240" y="5073480"/>
            <a:ext cx="100080" cy="1764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784080" y="5567400"/>
            <a:ext cx="100080" cy="3492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2478240" y="4632480"/>
            <a:ext cx="99720" cy="172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6257880" y="4257720"/>
            <a:ext cx="98640" cy="1584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174680" y="5602320"/>
            <a:ext cx="100080" cy="172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1305000" y="5143680"/>
            <a:ext cx="100080" cy="3312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1434960" y="4462560"/>
            <a:ext cx="100080" cy="158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2087640" y="4886280"/>
            <a:ext cx="98280" cy="176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2347920" y="5040360"/>
            <a:ext cx="100080" cy="172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2868480" y="5126040"/>
            <a:ext cx="100080" cy="1764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1174680" y="5584680"/>
            <a:ext cx="100080" cy="176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1305000" y="5108400"/>
            <a:ext cx="100080" cy="3528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1434960" y="4444920"/>
            <a:ext cx="100080" cy="176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475240" y="5057640"/>
            <a:ext cx="100080" cy="1584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1174680" y="5567400"/>
            <a:ext cx="10008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1305000" y="5057640"/>
            <a:ext cx="100080" cy="50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1434960" y="4359240"/>
            <a:ext cx="100080" cy="856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1566720" y="5346720"/>
            <a:ext cx="9864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3519360" y="5330880"/>
            <a:ext cx="101880" cy="158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3651120" y="5176800"/>
            <a:ext cx="98640" cy="334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781440" y="4767120"/>
            <a:ext cx="1000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911760" y="5057640"/>
            <a:ext cx="99720" cy="2890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4041720" y="4921200"/>
            <a:ext cx="100080" cy="4428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4172040" y="4989600"/>
            <a:ext cx="100080" cy="4428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302000" y="4784760"/>
            <a:ext cx="100080" cy="4255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4432320" y="5126040"/>
            <a:ext cx="100080" cy="152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4562640" y="5465880"/>
            <a:ext cx="9972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4694400" y="4564080"/>
            <a:ext cx="98280" cy="1015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822920" y="4564080"/>
            <a:ext cx="101520" cy="4413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4954680" y="5346720"/>
            <a:ext cx="98280" cy="17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>
            <a:off x="5735520" y="4734000"/>
            <a:ext cx="100080" cy="13644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5865840" y="5057640"/>
            <a:ext cx="1000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5997600" y="5040360"/>
            <a:ext cx="98280" cy="1191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>
            <a:off x="6126120" y="4632480"/>
            <a:ext cx="100080" cy="3394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>
            <a:off x="6257880" y="3898800"/>
            <a:ext cx="98640" cy="3589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386400" y="3524400"/>
            <a:ext cx="101880" cy="2062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6518160" y="5126040"/>
            <a:ext cx="98640" cy="50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7429680" y="4886280"/>
            <a:ext cx="99720" cy="37620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>
            <a:off x="7561440" y="4802040"/>
            <a:ext cx="98280" cy="37476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8082000" y="5143680"/>
            <a:ext cx="98280" cy="8388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263520" y="5278320"/>
            <a:ext cx="98280" cy="52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92040" y="5483160"/>
            <a:ext cx="10152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523800" y="5483160"/>
            <a:ext cx="9864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654120" y="5176800"/>
            <a:ext cx="100080" cy="220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784080" y="5499000"/>
            <a:ext cx="100080" cy="684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914400" y="5295960"/>
            <a:ext cx="10008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1044720" y="5465880"/>
            <a:ext cx="9972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1174680" y="5551560"/>
            <a:ext cx="1000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1305000" y="4956120"/>
            <a:ext cx="10008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1434960" y="3916440"/>
            <a:ext cx="100080" cy="442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566720" y="4718160"/>
            <a:ext cx="98640" cy="628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695600" y="4956120"/>
            <a:ext cx="101520" cy="101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827360" y="5126040"/>
            <a:ext cx="98280" cy="136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955880" y="4273560"/>
            <a:ext cx="101520" cy="189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087640" y="4649760"/>
            <a:ext cx="98280" cy="236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2217600" y="5091120"/>
            <a:ext cx="100080" cy="171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347920" y="4971960"/>
            <a:ext cx="100080" cy="684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738520" y="4257720"/>
            <a:ext cx="100080" cy="8859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2868480" y="3984480"/>
            <a:ext cx="100080" cy="1141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2998800" y="4734000"/>
            <a:ext cx="100080" cy="172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130560" y="4683240"/>
            <a:ext cx="98280" cy="158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3519360" y="5295960"/>
            <a:ext cx="101880" cy="34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3651120" y="5143680"/>
            <a:ext cx="9864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3911760" y="5024520"/>
            <a:ext cx="9972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562640" y="5380200"/>
            <a:ext cx="99720" cy="85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4822920" y="4511520"/>
            <a:ext cx="101520" cy="525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5083200" y="5176800"/>
            <a:ext cx="101520" cy="357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5214960" y="4819680"/>
            <a:ext cx="98280" cy="5605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5345280" y="5346720"/>
            <a:ext cx="99720" cy="171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5605560" y="5126040"/>
            <a:ext cx="100080" cy="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5735520" y="4478400"/>
            <a:ext cx="100080" cy="255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5997600" y="4870440"/>
            <a:ext cx="98280" cy="169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6126120" y="4495680"/>
            <a:ext cx="100080" cy="136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6257880" y="3695760"/>
            <a:ext cx="98640" cy="203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6386400" y="3252960"/>
            <a:ext cx="101880" cy="271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6518160" y="4903920"/>
            <a:ext cx="98640" cy="222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6647040" y="4870440"/>
            <a:ext cx="101520" cy="169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6778800" y="5176800"/>
            <a:ext cx="98280" cy="507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7039080" y="4989600"/>
            <a:ext cx="100080" cy="68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7169040" y="4989600"/>
            <a:ext cx="100080" cy="118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7429680" y="4579920"/>
            <a:ext cx="99720" cy="30636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561440" y="4665600"/>
            <a:ext cx="98280" cy="1364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7689960" y="5330880"/>
            <a:ext cx="100080" cy="66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7821720" y="5057640"/>
            <a:ext cx="98280" cy="22068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7950240" y="4989600"/>
            <a:ext cx="101520" cy="2556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8082000" y="5057640"/>
            <a:ext cx="98280" cy="860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390840" y="4886280"/>
            <a:ext cx="98640" cy="176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4302000" y="4734000"/>
            <a:ext cx="100080" cy="50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694400" y="4511520"/>
            <a:ext cx="98280" cy="5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4822920" y="4495680"/>
            <a:ext cx="101520" cy="158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5345280" y="5330880"/>
            <a:ext cx="99720" cy="158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6126120" y="4478400"/>
            <a:ext cx="100080" cy="172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6647040" y="4819680"/>
            <a:ext cx="101520" cy="5076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7039080" y="4956120"/>
            <a:ext cx="100080" cy="334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950240" y="4971960"/>
            <a:ext cx="101520" cy="176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392040" y="5380200"/>
            <a:ext cx="101520" cy="10296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784080" y="5465880"/>
            <a:ext cx="1000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305000" y="4921200"/>
            <a:ext cx="100080" cy="349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1434960" y="3898800"/>
            <a:ext cx="100080" cy="176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955880" y="4257720"/>
            <a:ext cx="101520" cy="158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2868480" y="3967200"/>
            <a:ext cx="10008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302000" y="4665600"/>
            <a:ext cx="100080" cy="6840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694400" y="4478400"/>
            <a:ext cx="982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4822920" y="4478400"/>
            <a:ext cx="10152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954680" y="5330880"/>
            <a:ext cx="98280" cy="1584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5083200" y="5159520"/>
            <a:ext cx="101520" cy="172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392040" y="5364000"/>
            <a:ext cx="101520" cy="16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434960" y="388296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1695600" y="4921200"/>
            <a:ext cx="10152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2087640" y="4632480"/>
            <a:ext cx="98280" cy="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2347920" y="495612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2868480" y="3933720"/>
            <a:ext cx="100080" cy="33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2998800" y="4699080"/>
            <a:ext cx="10008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3390840" y="4870440"/>
            <a:ext cx="9864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3651120" y="5126040"/>
            <a:ext cx="9864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3781440" y="475128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3911760" y="4971960"/>
            <a:ext cx="9972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041720" y="4903920"/>
            <a:ext cx="100080" cy="17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4172040" y="497196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4302000" y="4546440"/>
            <a:ext cx="100080" cy="1191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32320" y="510840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694400" y="4427640"/>
            <a:ext cx="9828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4822920" y="4444920"/>
            <a:ext cx="101520" cy="33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4954680" y="5278320"/>
            <a:ext cx="98280" cy="52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5214960" y="4784760"/>
            <a:ext cx="98280" cy="3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>
            <a:off x="6126120" y="446256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6647040" y="4802040"/>
            <a:ext cx="10152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6908760" y="5143680"/>
            <a:ext cx="100080" cy="158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7561440" y="4614840"/>
            <a:ext cx="98280" cy="507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/>
          <p:nvPr/>
        </p:nvSpPr>
        <p:spPr>
          <a:xfrm>
            <a:off x="7689960" y="5313240"/>
            <a:ext cx="100080" cy="17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7821720" y="5005440"/>
            <a:ext cx="98280" cy="52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/>
          <p:nvPr/>
        </p:nvSpPr>
        <p:spPr>
          <a:xfrm>
            <a:off x="2868480" y="3916440"/>
            <a:ext cx="100080" cy="1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/>
          <p:nvPr/>
        </p:nvSpPr>
        <p:spPr>
          <a:xfrm>
            <a:off x="2998800" y="4649760"/>
            <a:ext cx="100080" cy="4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/>
          <p:nvPr/>
        </p:nvSpPr>
        <p:spPr>
          <a:xfrm>
            <a:off x="4302000" y="4511520"/>
            <a:ext cx="100080" cy="3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/>
          <p:nvPr/>
        </p:nvSpPr>
        <p:spPr>
          <a:xfrm>
            <a:off x="4694400" y="4376880"/>
            <a:ext cx="98280" cy="50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/>
          <p:nvPr/>
        </p:nvSpPr>
        <p:spPr>
          <a:xfrm>
            <a:off x="4822920" y="4376880"/>
            <a:ext cx="101520" cy="68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/>
          <p:nvPr/>
        </p:nvSpPr>
        <p:spPr>
          <a:xfrm>
            <a:off x="6908760" y="5126040"/>
            <a:ext cx="100080" cy="1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523800" y="5465880"/>
            <a:ext cx="98640" cy="1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>
            <a:off x="1434960" y="3865680"/>
            <a:ext cx="100080" cy="172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3911760" y="4699080"/>
            <a:ext cx="99720" cy="2728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4694400" y="4359240"/>
            <a:ext cx="9828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4822920" y="4359240"/>
            <a:ext cx="10152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5865840" y="5005440"/>
            <a:ext cx="100080" cy="5220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6647040" y="4699080"/>
            <a:ext cx="101520" cy="102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6778800" y="4597560"/>
            <a:ext cx="98280" cy="579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6908760" y="5108400"/>
            <a:ext cx="100080" cy="176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7429680" y="2809800"/>
            <a:ext cx="99720" cy="17701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7561440" y="2179800"/>
            <a:ext cx="98280" cy="24350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7689960" y="4410000"/>
            <a:ext cx="100080" cy="9032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7821720" y="4989600"/>
            <a:ext cx="98280" cy="1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"/>
          <p:cNvSpPr/>
          <p:nvPr/>
        </p:nvSpPr>
        <p:spPr>
          <a:xfrm>
            <a:off x="7950240" y="4956120"/>
            <a:ext cx="101520" cy="1584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"/>
          <p:cNvSpPr/>
          <p:nvPr/>
        </p:nvSpPr>
        <p:spPr>
          <a:xfrm>
            <a:off x="523800" y="5450040"/>
            <a:ext cx="9864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"/>
          <p:cNvSpPr/>
          <p:nvPr/>
        </p:nvSpPr>
        <p:spPr>
          <a:xfrm>
            <a:off x="1434960" y="3813120"/>
            <a:ext cx="10008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/>
          <p:nvPr/>
        </p:nvSpPr>
        <p:spPr>
          <a:xfrm>
            <a:off x="2087640" y="4579920"/>
            <a:ext cx="9828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"/>
          <p:cNvSpPr/>
          <p:nvPr/>
        </p:nvSpPr>
        <p:spPr>
          <a:xfrm>
            <a:off x="2347920" y="493884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"/>
          <p:cNvSpPr/>
          <p:nvPr/>
        </p:nvSpPr>
        <p:spPr>
          <a:xfrm>
            <a:off x="2478240" y="4579920"/>
            <a:ext cx="99720" cy="52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"/>
          <p:cNvSpPr/>
          <p:nvPr/>
        </p:nvSpPr>
        <p:spPr>
          <a:xfrm>
            <a:off x="2738520" y="4224240"/>
            <a:ext cx="100080" cy="33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"/>
          <p:cNvSpPr/>
          <p:nvPr/>
        </p:nvSpPr>
        <p:spPr>
          <a:xfrm>
            <a:off x="2868480" y="3865680"/>
            <a:ext cx="100080" cy="50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2998800" y="4614840"/>
            <a:ext cx="100080" cy="3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/>
          <p:nvPr/>
        </p:nvSpPr>
        <p:spPr>
          <a:xfrm>
            <a:off x="3390840" y="4853160"/>
            <a:ext cx="9864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3781440" y="473400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911760" y="4683240"/>
            <a:ext cx="9972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4954680" y="5262480"/>
            <a:ext cx="98280" cy="15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5214960" y="4767120"/>
            <a:ext cx="98280" cy="17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735520" y="4427640"/>
            <a:ext cx="100080" cy="507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"/>
          <p:cNvSpPr/>
          <p:nvPr/>
        </p:nvSpPr>
        <p:spPr>
          <a:xfrm>
            <a:off x="5997600" y="4853160"/>
            <a:ext cx="982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"/>
          <p:cNvSpPr/>
          <p:nvPr/>
        </p:nvSpPr>
        <p:spPr>
          <a:xfrm>
            <a:off x="6126120" y="4444920"/>
            <a:ext cx="100080" cy="17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6386400" y="3236760"/>
            <a:ext cx="101880" cy="16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"/>
          <p:cNvSpPr/>
          <p:nvPr/>
        </p:nvSpPr>
        <p:spPr>
          <a:xfrm>
            <a:off x="6647040" y="4564080"/>
            <a:ext cx="101520" cy="1350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6908760" y="5091120"/>
            <a:ext cx="1000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8082000" y="5040360"/>
            <a:ext cx="98280" cy="172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2478240" y="3645000"/>
            <a:ext cx="99720" cy="9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2608200" y="5108400"/>
            <a:ext cx="100080" cy="68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2738520" y="4119480"/>
            <a:ext cx="100080" cy="104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868480" y="3780000"/>
            <a:ext cx="100080" cy="85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"/>
          <p:cNvSpPr/>
          <p:nvPr/>
        </p:nvSpPr>
        <p:spPr>
          <a:xfrm>
            <a:off x="2998800" y="4546440"/>
            <a:ext cx="100080" cy="68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3130560" y="4649760"/>
            <a:ext cx="98280" cy="33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"/>
          <p:cNvSpPr/>
          <p:nvPr/>
        </p:nvSpPr>
        <p:spPr>
          <a:xfrm>
            <a:off x="3519360" y="5245200"/>
            <a:ext cx="101880" cy="50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3651120" y="5108400"/>
            <a:ext cx="9864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781440" y="4718160"/>
            <a:ext cx="100080" cy="15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"/>
          <p:cNvSpPr/>
          <p:nvPr/>
        </p:nvSpPr>
        <p:spPr>
          <a:xfrm>
            <a:off x="3911760" y="4530600"/>
            <a:ext cx="99720" cy="152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"/>
          <p:cNvSpPr/>
          <p:nvPr/>
        </p:nvSpPr>
        <p:spPr>
          <a:xfrm>
            <a:off x="4041720" y="4699080"/>
            <a:ext cx="100080" cy="204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4172040" y="4614840"/>
            <a:ext cx="100080" cy="357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4302000" y="3849840"/>
            <a:ext cx="100080" cy="6616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4432320" y="4649760"/>
            <a:ext cx="100080" cy="458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"/>
          <p:cNvSpPr/>
          <p:nvPr/>
        </p:nvSpPr>
        <p:spPr>
          <a:xfrm>
            <a:off x="4562640" y="5176800"/>
            <a:ext cx="99720" cy="2034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"/>
          <p:cNvSpPr/>
          <p:nvPr/>
        </p:nvSpPr>
        <p:spPr>
          <a:xfrm>
            <a:off x="4694400" y="4257720"/>
            <a:ext cx="98280" cy="1015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"/>
          <p:cNvSpPr/>
          <p:nvPr/>
        </p:nvSpPr>
        <p:spPr>
          <a:xfrm>
            <a:off x="4822920" y="4156200"/>
            <a:ext cx="101520" cy="2030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/>
          <p:cNvSpPr/>
          <p:nvPr/>
        </p:nvSpPr>
        <p:spPr>
          <a:xfrm>
            <a:off x="4954680" y="4956120"/>
            <a:ext cx="98280" cy="3063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"/>
          <p:cNvSpPr/>
          <p:nvPr/>
        </p:nvSpPr>
        <p:spPr>
          <a:xfrm>
            <a:off x="5083200" y="4802040"/>
            <a:ext cx="101520" cy="357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"/>
          <p:cNvSpPr/>
          <p:nvPr/>
        </p:nvSpPr>
        <p:spPr>
          <a:xfrm>
            <a:off x="5214960" y="4224240"/>
            <a:ext cx="98280" cy="5428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"/>
          <p:cNvSpPr/>
          <p:nvPr/>
        </p:nvSpPr>
        <p:spPr>
          <a:xfrm>
            <a:off x="5345280" y="5126040"/>
            <a:ext cx="99720" cy="204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5475240" y="4903920"/>
            <a:ext cx="100080" cy="153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"/>
          <p:cNvSpPr/>
          <p:nvPr/>
        </p:nvSpPr>
        <p:spPr>
          <a:xfrm>
            <a:off x="5605560" y="50911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"/>
          <p:cNvSpPr/>
          <p:nvPr/>
        </p:nvSpPr>
        <p:spPr>
          <a:xfrm>
            <a:off x="5735520" y="439272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"/>
          <p:cNvSpPr/>
          <p:nvPr/>
        </p:nvSpPr>
        <p:spPr>
          <a:xfrm>
            <a:off x="5997600" y="4836960"/>
            <a:ext cx="98280" cy="1620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"/>
          <p:cNvSpPr/>
          <p:nvPr/>
        </p:nvSpPr>
        <p:spPr>
          <a:xfrm>
            <a:off x="6126120" y="4325760"/>
            <a:ext cx="100080" cy="11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6257880" y="3473280"/>
            <a:ext cx="98640" cy="2224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"/>
          <p:cNvSpPr/>
          <p:nvPr/>
        </p:nvSpPr>
        <p:spPr>
          <a:xfrm>
            <a:off x="6386400" y="3218040"/>
            <a:ext cx="101880" cy="187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"/>
          <p:cNvSpPr/>
          <p:nvPr/>
        </p:nvSpPr>
        <p:spPr>
          <a:xfrm>
            <a:off x="7169040" y="4971960"/>
            <a:ext cx="100080" cy="176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"/>
          <p:cNvSpPr/>
          <p:nvPr/>
        </p:nvSpPr>
        <p:spPr>
          <a:xfrm>
            <a:off x="7299360" y="5295960"/>
            <a:ext cx="100080" cy="349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7689960" y="4392720"/>
            <a:ext cx="10008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>
            <a:off x="7950240" y="4938840"/>
            <a:ext cx="101520" cy="1728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>
            <a:off x="8082000" y="4921200"/>
            <a:ext cx="98280" cy="11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247680" y="1498680"/>
            <a:ext cx="0" cy="425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217440" y="575640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"/>
          <p:cNvSpPr/>
          <p:nvPr/>
        </p:nvSpPr>
        <p:spPr>
          <a:xfrm>
            <a:off x="217440" y="490392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"/>
          <p:cNvSpPr/>
          <p:nvPr/>
        </p:nvSpPr>
        <p:spPr>
          <a:xfrm>
            <a:off x="217440" y="40528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"/>
          <p:cNvSpPr/>
          <p:nvPr/>
        </p:nvSpPr>
        <p:spPr>
          <a:xfrm>
            <a:off x="217440" y="320184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"/>
          <p:cNvSpPr/>
          <p:nvPr/>
        </p:nvSpPr>
        <p:spPr>
          <a:xfrm>
            <a:off x="217440" y="235116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"/>
          <p:cNvSpPr/>
          <p:nvPr/>
        </p:nvSpPr>
        <p:spPr>
          <a:xfrm>
            <a:off x="217440" y="14986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247680" y="5756400"/>
            <a:ext cx="7948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247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378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07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 flipV="1">
            <a:off x="6382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770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8985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1030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 flipV="1">
            <a:off x="1158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1290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1419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>
            <a:off x="1550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>
            <a:off x="1681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>
            <a:off x="1811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>
            <a:off x="1941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 flipV="1">
            <a:off x="2071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 flipV="1">
            <a:off x="22017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flipV="1">
            <a:off x="23335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"/>
          <p:cNvSpPr/>
          <p:nvPr/>
        </p:nvSpPr>
        <p:spPr>
          <a:xfrm flipV="1">
            <a:off x="2462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"/>
          <p:cNvSpPr/>
          <p:nvPr/>
        </p:nvSpPr>
        <p:spPr>
          <a:xfrm flipV="1">
            <a:off x="2593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2722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28544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2982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3114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3244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3375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3505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36352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 flipV="1">
            <a:off x="3765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 flipV="1">
            <a:off x="38973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"/>
          <p:cNvSpPr/>
          <p:nvPr/>
        </p:nvSpPr>
        <p:spPr>
          <a:xfrm flipV="1">
            <a:off x="4025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"/>
          <p:cNvSpPr/>
          <p:nvPr/>
        </p:nvSpPr>
        <p:spPr>
          <a:xfrm flipV="1">
            <a:off x="41576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"/>
          <p:cNvSpPr/>
          <p:nvPr/>
        </p:nvSpPr>
        <p:spPr>
          <a:xfrm flipV="1">
            <a:off x="4286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"/>
          <p:cNvSpPr/>
          <p:nvPr/>
        </p:nvSpPr>
        <p:spPr>
          <a:xfrm flipV="1">
            <a:off x="44179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"/>
          <p:cNvSpPr/>
          <p:nvPr/>
        </p:nvSpPr>
        <p:spPr>
          <a:xfrm flipV="1">
            <a:off x="45464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"/>
          <p:cNvSpPr/>
          <p:nvPr/>
        </p:nvSpPr>
        <p:spPr>
          <a:xfrm flipV="1">
            <a:off x="4678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 flipV="1">
            <a:off x="48085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"/>
          <p:cNvSpPr/>
          <p:nvPr/>
        </p:nvSpPr>
        <p:spPr>
          <a:xfrm flipV="1">
            <a:off x="4938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 flipV="1">
            <a:off x="50688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 flipV="1">
            <a:off x="5199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flipV="1">
            <a:off x="53290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 flipV="1">
            <a:off x="5460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 flipV="1">
            <a:off x="5589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/>
          <p:nvPr/>
        </p:nvSpPr>
        <p:spPr>
          <a:xfrm flipV="1">
            <a:off x="5721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/>
          <p:nvPr/>
        </p:nvSpPr>
        <p:spPr>
          <a:xfrm flipV="1">
            <a:off x="58500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 flipV="1">
            <a:off x="59817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"/>
          <p:cNvSpPr/>
          <p:nvPr/>
        </p:nvSpPr>
        <p:spPr>
          <a:xfrm flipV="1">
            <a:off x="61117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 flipV="1">
            <a:off x="62420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 flipV="1">
            <a:off x="63723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"/>
          <p:cNvSpPr/>
          <p:nvPr/>
        </p:nvSpPr>
        <p:spPr>
          <a:xfrm flipV="1">
            <a:off x="65023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 flipV="1">
            <a:off x="66326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V="1">
            <a:off x="67626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 flipV="1">
            <a:off x="68929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 flipV="1">
            <a:off x="70246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715320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"/>
          <p:cNvSpPr/>
          <p:nvPr/>
        </p:nvSpPr>
        <p:spPr>
          <a:xfrm flipV="1">
            <a:off x="72849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"/>
          <p:cNvSpPr/>
          <p:nvPr/>
        </p:nvSpPr>
        <p:spPr>
          <a:xfrm flipV="1">
            <a:off x="74134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"/>
          <p:cNvSpPr/>
          <p:nvPr/>
        </p:nvSpPr>
        <p:spPr>
          <a:xfrm flipV="1">
            <a:off x="75452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"/>
          <p:cNvSpPr/>
          <p:nvPr/>
        </p:nvSpPr>
        <p:spPr>
          <a:xfrm flipV="1">
            <a:off x="76755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 flipV="1">
            <a:off x="780588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 flipV="1">
            <a:off x="793584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 flipV="1">
            <a:off x="806616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 flipV="1">
            <a:off x="8196120" y="5756040"/>
            <a:ext cx="0" cy="29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"/>
          <p:cNvSpPr/>
          <p:nvPr/>
        </p:nvSpPr>
        <p:spPr>
          <a:xfrm>
            <a:off x="136440" y="569448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81360" y="4843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"/>
          <p:cNvSpPr/>
          <p:nvPr/>
        </p:nvSpPr>
        <p:spPr>
          <a:xfrm>
            <a:off x="24480" y="399240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"/>
          <p:cNvSpPr/>
          <p:nvPr/>
        </p:nvSpPr>
        <p:spPr>
          <a:xfrm>
            <a:off x="24480" y="313992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24480" y="228924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4480" y="1438200"/>
            <a:ext cx="16992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 rot="16200000">
            <a:off x="27468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"/>
          <p:cNvSpPr/>
          <p:nvPr/>
        </p:nvSpPr>
        <p:spPr>
          <a:xfrm rot="16200000">
            <a:off x="40464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"/>
          <p:cNvSpPr/>
          <p:nvPr/>
        </p:nvSpPr>
        <p:spPr>
          <a:xfrm rot="16200000">
            <a:off x="53496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"/>
          <p:cNvSpPr/>
          <p:nvPr/>
        </p:nvSpPr>
        <p:spPr>
          <a:xfrm rot="16200000">
            <a:off x="66492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rot="16200000">
            <a:off x="79668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 rot="16200000">
            <a:off x="92520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 rot="16200000">
            <a:off x="105732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"/>
          <p:cNvSpPr/>
          <p:nvPr/>
        </p:nvSpPr>
        <p:spPr>
          <a:xfrm rot="16200000">
            <a:off x="118584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"/>
          <p:cNvSpPr/>
          <p:nvPr/>
        </p:nvSpPr>
        <p:spPr>
          <a:xfrm rot="16200000">
            <a:off x="1317600" y="577944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"/>
          <p:cNvSpPr/>
          <p:nvPr/>
        </p:nvSpPr>
        <p:spPr>
          <a:xfrm rot="16200000">
            <a:off x="14180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"/>
          <p:cNvSpPr/>
          <p:nvPr/>
        </p:nvSpPr>
        <p:spPr>
          <a:xfrm rot="16200000">
            <a:off x="15498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 rot="16200000">
            <a:off x="16797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 rot="16200000">
            <a:off x="18100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 rot="16200000">
            <a:off x="19418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 rot="16200000">
            <a:off x="20736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 rot="16200000">
            <a:off x="22039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 rot="16200000">
            <a:off x="23356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 rot="16200000">
            <a:off x="246420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 rot="16200000">
            <a:off x="25959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 rot="16200000">
            <a:off x="27244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 rot="16200000">
            <a:off x="28562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"/>
          <p:cNvSpPr/>
          <p:nvPr/>
        </p:nvSpPr>
        <p:spPr>
          <a:xfrm rot="16200000">
            <a:off x="29847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"/>
          <p:cNvSpPr/>
          <p:nvPr/>
        </p:nvSpPr>
        <p:spPr>
          <a:xfrm rot="16200000">
            <a:off x="31165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"/>
          <p:cNvSpPr/>
          <p:nvPr/>
        </p:nvSpPr>
        <p:spPr>
          <a:xfrm rot="16200000">
            <a:off x="32468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"/>
          <p:cNvSpPr/>
          <p:nvPr/>
        </p:nvSpPr>
        <p:spPr>
          <a:xfrm rot="16200000">
            <a:off x="33768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 rot="16200000">
            <a:off x="35071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 rot="16200000">
            <a:off x="36374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/>
          <p:nvPr/>
        </p:nvSpPr>
        <p:spPr>
          <a:xfrm rot="16200000">
            <a:off x="37674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/>
          <p:nvPr/>
        </p:nvSpPr>
        <p:spPr>
          <a:xfrm rot="16200000">
            <a:off x="38991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/>
          <p:nvPr/>
        </p:nvSpPr>
        <p:spPr>
          <a:xfrm rot="16200000">
            <a:off x="402768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 rot="16200000">
            <a:off x="418752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rot="16200000">
            <a:off x="431640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rot="16200000">
            <a:off x="444636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rot="16200000">
            <a:off x="457668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rot="16200000">
            <a:off x="470664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rot="16200000">
            <a:off x="483840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rot="16200000">
            <a:off x="496728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rot="16200000">
            <a:off x="509904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rot="16200000">
            <a:off x="5227560" y="577620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rot="16200000">
            <a:off x="53312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rot="16200000">
            <a:off x="54612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rot="16200000">
            <a:off x="55915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 rot="16200000">
            <a:off x="572184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rot="16200000">
            <a:off x="58503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rot="16200000">
            <a:off x="598212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rot="16200000">
            <a:off x="611208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rot="16200000">
            <a:off x="624240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rot="16200000">
            <a:off x="6374160" y="580644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rot="16200000">
            <a:off x="650268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rot="16200000">
            <a:off x="66344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rot="16200000">
            <a:off x="676296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rot="16200000">
            <a:off x="689472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rot="16200000">
            <a:off x="7025040" y="580860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rot="16200000">
            <a:off x="715536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 rot="16200000">
            <a:off x="72853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 rot="16200000">
            <a:off x="741564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 rot="16200000">
            <a:off x="754560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 rot="16200000">
            <a:off x="76759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 rot="16200000">
            <a:off x="780624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"/>
          <p:cNvSpPr/>
          <p:nvPr/>
        </p:nvSpPr>
        <p:spPr>
          <a:xfrm rot="16200000">
            <a:off x="793800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 rot="16200000">
            <a:off x="8066520" y="580536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78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507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6382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770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8985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1030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158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290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14191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1550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681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1811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1941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2071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22017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23335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"/>
          <p:cNvSpPr/>
          <p:nvPr/>
        </p:nvSpPr>
        <p:spPr>
          <a:xfrm>
            <a:off x="2462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2593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2722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28544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"/>
          <p:cNvSpPr/>
          <p:nvPr/>
        </p:nvSpPr>
        <p:spPr>
          <a:xfrm>
            <a:off x="2982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"/>
          <p:cNvSpPr/>
          <p:nvPr/>
        </p:nvSpPr>
        <p:spPr>
          <a:xfrm>
            <a:off x="3114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"/>
          <p:cNvSpPr/>
          <p:nvPr/>
        </p:nvSpPr>
        <p:spPr>
          <a:xfrm>
            <a:off x="3244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"/>
          <p:cNvSpPr/>
          <p:nvPr/>
        </p:nvSpPr>
        <p:spPr>
          <a:xfrm>
            <a:off x="3375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505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"/>
          <p:cNvSpPr/>
          <p:nvPr/>
        </p:nvSpPr>
        <p:spPr>
          <a:xfrm>
            <a:off x="36352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/>
          <p:nvPr/>
        </p:nvSpPr>
        <p:spPr>
          <a:xfrm>
            <a:off x="3765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8973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4025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4286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"/>
          <p:cNvSpPr/>
          <p:nvPr/>
        </p:nvSpPr>
        <p:spPr>
          <a:xfrm>
            <a:off x="44179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45464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"/>
          <p:cNvSpPr/>
          <p:nvPr/>
        </p:nvSpPr>
        <p:spPr>
          <a:xfrm>
            <a:off x="4678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"/>
          <p:cNvSpPr/>
          <p:nvPr/>
        </p:nvSpPr>
        <p:spPr>
          <a:xfrm>
            <a:off x="48085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"/>
          <p:cNvSpPr/>
          <p:nvPr/>
        </p:nvSpPr>
        <p:spPr>
          <a:xfrm>
            <a:off x="4938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"/>
          <p:cNvSpPr/>
          <p:nvPr/>
        </p:nvSpPr>
        <p:spPr>
          <a:xfrm>
            <a:off x="50688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/>
          <p:cNvSpPr/>
          <p:nvPr/>
        </p:nvSpPr>
        <p:spPr>
          <a:xfrm>
            <a:off x="51991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53290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>
            <a:off x="5460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5589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"/>
          <p:cNvSpPr/>
          <p:nvPr/>
        </p:nvSpPr>
        <p:spPr>
          <a:xfrm>
            <a:off x="5721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"/>
          <p:cNvSpPr/>
          <p:nvPr/>
        </p:nvSpPr>
        <p:spPr>
          <a:xfrm>
            <a:off x="58500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"/>
          <p:cNvSpPr/>
          <p:nvPr/>
        </p:nvSpPr>
        <p:spPr>
          <a:xfrm>
            <a:off x="59817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"/>
          <p:cNvSpPr/>
          <p:nvPr/>
        </p:nvSpPr>
        <p:spPr>
          <a:xfrm>
            <a:off x="61117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"/>
          <p:cNvSpPr/>
          <p:nvPr/>
        </p:nvSpPr>
        <p:spPr>
          <a:xfrm>
            <a:off x="62420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63723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65023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66326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67626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89292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>
            <a:off x="70246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715320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>
            <a:off x="72849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74134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>
            <a:off x="75452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76755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780588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93584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>
            <a:off x="8066160" y="5756400"/>
            <a:ext cx="0" cy="18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2195640" y="6016680"/>
            <a:ext cx="5724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6142320" y="6016680"/>
            <a:ext cx="11340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"/>
          <p:cNvSpPr/>
          <p:nvPr/>
        </p:nvSpPr>
        <p:spPr>
          <a:xfrm>
            <a:off x="24768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819612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"/>
          <p:cNvSpPr/>
          <p:nvPr/>
        </p:nvSpPr>
        <p:spPr>
          <a:xfrm>
            <a:off x="4157640" y="5756400"/>
            <a:ext cx="0" cy="38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"/>
          <p:cNvSpPr/>
          <p:nvPr/>
        </p:nvSpPr>
        <p:spPr>
          <a:xfrm>
            <a:off x="8296200" y="1273320"/>
            <a:ext cx="757440" cy="4868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"/>
          <p:cNvSpPr/>
          <p:nvPr/>
        </p:nvSpPr>
        <p:spPr>
          <a:xfrm>
            <a:off x="8323200" y="1305000"/>
            <a:ext cx="33480" cy="33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"/>
          <p:cNvSpPr/>
          <p:nvPr/>
        </p:nvSpPr>
        <p:spPr>
          <a:xfrm>
            <a:off x="8375400" y="1293840"/>
            <a:ext cx="681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7-Av. Hipolito Yrigoye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>
            <a:off x="8323200" y="1413000"/>
            <a:ext cx="33480" cy="3492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>
            <a:off x="8380080" y="1401840"/>
            <a:ext cx="419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6-Pueyrred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8323200" y="1522440"/>
            <a:ext cx="33480" cy="334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>
            <a:off x="8380080" y="1509840"/>
            <a:ext cx="369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5-Rivadavi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8323200" y="1630440"/>
            <a:ext cx="33480" cy="3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>
            <a:off x="8380800" y="1617840"/>
            <a:ext cx="264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4-Irigo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8323200" y="1738440"/>
            <a:ext cx="33480" cy="331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>
            <a:off x="8380440" y="1725480"/>
            <a:ext cx="54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3-Bartolome Mitr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8323200" y="1846440"/>
            <a:ext cx="33480" cy="3312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>
            <a:off x="8380800" y="1833480"/>
            <a:ext cx="226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2-Itali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8323200" y="1954080"/>
            <a:ext cx="33480" cy="334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>
            <a:off x="8381160" y="194328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1-Cones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8323200" y="2062080"/>
            <a:ext cx="33480" cy="349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>
            <a:off x="8382600" y="2050920"/>
            <a:ext cx="261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40-Pard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8323200" y="2171880"/>
            <a:ext cx="33480" cy="33120"/>
          </a:xfrm>
          <a:prstGeom prst="rect">
            <a:avLst/>
          </a:prstGeom>
          <a:solidFill>
            <a:srgbClr val="99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>
            <a:off x="8380080" y="2158920"/>
            <a:ext cx="384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9-Corrien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8323200" y="2279520"/>
            <a:ext cx="33480" cy="33480"/>
          </a:xfrm>
          <a:prstGeom prst="rect">
            <a:avLst/>
          </a:prstGeom>
          <a:solidFill>
            <a:srgbClr val="33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>
            <a:off x="8379000" y="2266920"/>
            <a:ext cx="3985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8-Sourdeau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8323200" y="2387520"/>
            <a:ext cx="33480" cy="33480"/>
          </a:xfrm>
          <a:prstGeom prst="rect">
            <a:avLst/>
          </a:prstGeom>
          <a:solidFill>
            <a:srgbClr val="00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>
            <a:off x="8379720" y="2374920"/>
            <a:ext cx="39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7-San Mart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8323200" y="2495520"/>
            <a:ext cx="33480" cy="334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8378280" y="2482920"/>
            <a:ext cx="640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6-Av. Senador Mor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>
            <a:off x="8323200" y="2603520"/>
            <a:ext cx="33480" cy="33480"/>
          </a:xfrm>
          <a:prstGeom prst="rect">
            <a:avLst/>
          </a:prstGeom>
          <a:solidFill>
            <a:srgbClr val="00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8379360" y="259236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5-Gral Villeg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>
            <a:off x="8323200" y="2711520"/>
            <a:ext cx="33480" cy="33120"/>
          </a:xfrm>
          <a:prstGeom prst="rect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8379360" y="2700360"/>
            <a:ext cx="4273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4-Granader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>
            <a:off x="8323200" y="2820960"/>
            <a:ext cx="33480" cy="334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>
            <a:off x="8380080" y="2808360"/>
            <a:ext cx="352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2-Jaurech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8323200" y="2928960"/>
            <a:ext cx="33480" cy="33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>
            <a:off x="8382240" y="2916360"/>
            <a:ext cx="4381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1-Niceto Veg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8323200" y="3036960"/>
            <a:ext cx="33480" cy="331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>
            <a:off x="8382240" y="3024360"/>
            <a:ext cx="3772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1-Necoche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8323200" y="3144960"/>
            <a:ext cx="33480" cy="331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>
            <a:off x="8379360" y="3132000"/>
            <a:ext cx="5828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30-Benigno Ocamp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8323200" y="3252960"/>
            <a:ext cx="33480" cy="3312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>
            <a:off x="8379360" y="3241800"/>
            <a:ext cx="5371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9-Gral. Rodrigue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8323200" y="3360600"/>
            <a:ext cx="33480" cy="334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>
            <a:off x="8380440" y="3349800"/>
            <a:ext cx="349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8-Matienz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8323200" y="3470400"/>
            <a:ext cx="33480" cy="3312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8375760" y="3457440"/>
            <a:ext cx="703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7-Boulevard San Marti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8323200" y="3578400"/>
            <a:ext cx="33480" cy="331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8379360" y="3565440"/>
            <a:ext cx="453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6-Gral. Horn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8323200" y="3686040"/>
            <a:ext cx="33480" cy="334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8376480" y="3673440"/>
            <a:ext cx="660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5-Lisandro de la Torr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8323200" y="3794040"/>
            <a:ext cx="33480" cy="334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8381160" y="3781440"/>
            <a:ext cx="4366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4-Av. Ameri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8323200" y="3902040"/>
            <a:ext cx="33480" cy="33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8380800" y="388944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3-Av. Gral Pa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8323200" y="4010040"/>
            <a:ext cx="33480" cy="334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8379720" y="3998880"/>
            <a:ext cx="480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2-Benito Juarez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8323200" y="4118040"/>
            <a:ext cx="33480" cy="34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8380080" y="4106880"/>
            <a:ext cx="4244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1-Nueva Yor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8323200" y="4227480"/>
            <a:ext cx="334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8378640" y="4214880"/>
            <a:ext cx="3452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20-Chivilco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8323200" y="4335480"/>
            <a:ext cx="33480" cy="3348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>
            <a:off x="8380080" y="4322880"/>
            <a:ext cx="3513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9-Av. Beir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8323200" y="4443480"/>
            <a:ext cx="33480" cy="3312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8381520" y="4430880"/>
            <a:ext cx="5295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8-Emilio Lamar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8323200" y="4551480"/>
            <a:ext cx="33480" cy="3312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8383680" y="4538520"/>
            <a:ext cx="3664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7-Campan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8323200" y="4659480"/>
            <a:ext cx="33480" cy="33120"/>
          </a:xfrm>
          <a:prstGeom prst="rect">
            <a:avLst/>
          </a:prstGeom>
          <a:solidFill>
            <a:srgbClr val="8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8381160" y="464832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6-Cuen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8323200" y="4767120"/>
            <a:ext cx="33480" cy="3492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8382600" y="4756320"/>
            <a:ext cx="2721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5-Naz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>
            <a:off x="8323200" y="4876920"/>
            <a:ext cx="33480" cy="331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8382600" y="4863960"/>
            <a:ext cx="3099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4-Nogoy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8323200" y="4984920"/>
            <a:ext cx="33480" cy="331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8383320" y="4971960"/>
            <a:ext cx="4518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3-Empedrad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8323200" y="5092560"/>
            <a:ext cx="33480" cy="3348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8380440" y="5079960"/>
            <a:ext cx="2826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2-Trell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8323200" y="5200560"/>
            <a:ext cx="33480" cy="33480"/>
          </a:xfrm>
          <a:prstGeom prst="rect">
            <a:avLst/>
          </a:prstGeom>
          <a:solidFill>
            <a:srgbClr val="0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381520" y="5187960"/>
            <a:ext cx="518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1-Jorge Newber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8323200" y="5308560"/>
            <a:ext cx="33480" cy="33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8381520" y="5297400"/>
            <a:ext cx="32220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10-Girardo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8323200" y="5416560"/>
            <a:ext cx="33480" cy="34920"/>
          </a:xfrm>
          <a:prstGeom prst="rect">
            <a:avLst/>
          </a:prstGeom>
          <a:solidFill>
            <a:srgbClr val="00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8379360" y="5405400"/>
            <a:ext cx="4960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8-Av. Corrient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8323200" y="5526000"/>
            <a:ext cx="33480" cy="33480"/>
          </a:xfrm>
          <a:prstGeom prst="rect">
            <a:avLst/>
          </a:prstGeom>
          <a:solidFill>
            <a:srgbClr val="ff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8382600" y="5513400"/>
            <a:ext cx="3178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7-Velazco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8323200" y="5634000"/>
            <a:ext cx="33480" cy="3348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8381160" y="5621400"/>
            <a:ext cx="27792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6-Loyol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8323200" y="5742000"/>
            <a:ext cx="33480" cy="33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8381520" y="5729400"/>
            <a:ext cx="4456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5-Av. Cordob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8323200" y="5850000"/>
            <a:ext cx="33480" cy="3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8382240" y="5837400"/>
            <a:ext cx="32076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3-Cabrer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8323200" y="5958000"/>
            <a:ext cx="33480" cy="3312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>
            <a:off x="8380080" y="5946840"/>
            <a:ext cx="26604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2-Gorriti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"/>
          <p:cNvSpPr/>
          <p:nvPr/>
        </p:nvSpPr>
        <p:spPr>
          <a:xfrm>
            <a:off x="8323200" y="6066000"/>
            <a:ext cx="33480" cy="349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"/>
          <p:cNvSpPr/>
          <p:nvPr/>
        </p:nvSpPr>
        <p:spPr>
          <a:xfrm>
            <a:off x="8380440" y="6054840"/>
            <a:ext cx="366480" cy="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" spc="-1" strike="noStrike">
                <a:solidFill>
                  <a:srgbClr val="000000"/>
                </a:solidFill>
                <a:latin typeface="Arial"/>
              </a:rPr>
              <a:t>01-Hondura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-112680" y="895320"/>
            <a:ext cx="43020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-67320" y="903240"/>
            <a:ext cx="39384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318960" y="895320"/>
            <a:ext cx="22860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367920" y="903240"/>
            <a:ext cx="1911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47680" y="1309680"/>
            <a:ext cx="944640" cy="1634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295560" y="1317600"/>
            <a:ext cx="906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unt of Est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3963960" y="6297480"/>
            <a:ext cx="277920" cy="16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4010040" y="6305400"/>
            <a:ext cx="24012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4241880" y="6297480"/>
            <a:ext cx="234720" cy="16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>
            <a:off x="4289400" y="6305400"/>
            <a:ext cx="19728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8296200" y="1085760"/>
            <a:ext cx="757440" cy="1857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>
            <a:off x="8345520" y="1104840"/>
            <a:ext cx="597960" cy="1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d-Nomb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9577B-7897-4F0F-B2B4-572D7D2F77D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C4D0A9-3170-42BF-8AB0-A5347530AF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0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1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2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Mayo-Juni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D16CE-142C-4ECB-8BD1-E65D9FFAF0B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4EBF1-C790-4E49-A9B0-77997D5AAE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4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5" name=""/>
          <p:cNvSpPr/>
          <p:nvPr/>
        </p:nvSpPr>
        <p:spPr>
          <a:xfrm>
            <a:off x="306360" y="154080"/>
            <a:ext cx="613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Julio-Agost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47E9-8E26-4F89-B18F-91016B8373F3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502FB-9D60-4371-B8F3-DBBD41B45B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6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2757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2758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 – Septiembre-Octubr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E048-2283-417F-A43C-3FF46D5E73A1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FA057-F8A6-40A1-8B60-73A97E1C9B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9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sp>
        <p:nvSpPr>
          <p:cNvPr id="2760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1" name=""/>
          <p:cNvGrpSpPr/>
          <p:nvPr/>
        </p:nvGrpSpPr>
        <p:grpSpPr>
          <a:xfrm>
            <a:off x="50760" y="895320"/>
            <a:ext cx="9164520" cy="5565960"/>
            <a:chOff x="50760" y="895320"/>
            <a:chExt cx="9164520" cy="5565960"/>
          </a:xfrm>
        </p:grpSpPr>
        <p:grpSp>
          <p:nvGrpSpPr>
            <p:cNvPr id="2762" name=""/>
            <p:cNvGrpSpPr/>
            <p:nvPr/>
          </p:nvGrpSpPr>
          <p:grpSpPr>
            <a:xfrm>
              <a:off x="188640" y="1235160"/>
              <a:ext cx="8171280" cy="4843440"/>
              <a:chOff x="188640" y="1235160"/>
              <a:chExt cx="8171280" cy="4843440"/>
            </a:xfrm>
          </p:grpSpPr>
          <p:sp>
            <p:nvSpPr>
              <p:cNvPr id="2763" name=""/>
              <p:cNvSpPr/>
              <p:nvPr/>
            </p:nvSpPr>
            <p:spPr>
              <a:xfrm>
                <a:off x="411120" y="1935000"/>
                <a:ext cx="7948800" cy="4091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411120" y="602604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11120" y="551484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11120" y="50022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11120" y="44928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11120" y="39798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11120" y="34704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11120" y="29574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11120" y="24462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411120" y="1935000"/>
                <a:ext cx="7948800" cy="0"/>
              </a:xfrm>
              <a:prstGeom prst="line">
                <a:avLst/>
              </a:prstGeom>
              <a:ln w="0">
                <a:solidFill>
                  <a:srgbClr val="969696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411120" y="1935000"/>
                <a:ext cx="7948800" cy="40910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25520" y="5538960"/>
                <a:ext cx="98280" cy="2300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6811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157968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17064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1835280" y="5667480"/>
                <a:ext cx="9828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1963800" y="5641920"/>
                <a:ext cx="98280" cy="1270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2090880" y="5667480"/>
                <a:ext cx="101520" cy="1015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2220840" y="5616720"/>
                <a:ext cx="98640" cy="15228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34792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247644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2989440" y="5692680"/>
                <a:ext cx="982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3116160" y="5462640"/>
                <a:ext cx="100080" cy="306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3244680" y="5335560"/>
                <a:ext cx="100080" cy="4334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3375000" y="5565600"/>
                <a:ext cx="98280" cy="2034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3502080" y="5591160"/>
                <a:ext cx="100080" cy="17784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363060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3886200" y="5692680"/>
                <a:ext cx="100080" cy="7632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4014720" y="5743440"/>
                <a:ext cx="9864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4141800" y="5743440"/>
                <a:ext cx="1000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527720" y="5743440"/>
                <a:ext cx="9972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784760" y="5743440"/>
                <a:ext cx="98280" cy="25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4911840" y="5489640"/>
                <a:ext cx="99720" cy="2793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040360" y="5259240"/>
                <a:ext cx="98280" cy="509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411120" y="1935000"/>
                <a:ext cx="0" cy="4091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380880" y="60260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380880" y="551484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380880" y="5002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380880" y="4492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380880" y="39798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380880" y="3470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380880" y="29574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380880" y="24462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380880" y="1935000"/>
                <a:ext cx="302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411120" y="5769000"/>
                <a:ext cx="7948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 flipV="1">
                <a:off x="411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 flipV="1">
                <a:off x="539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 flipV="1">
                <a:off x="666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 flipV="1">
                <a:off x="795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923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 flipV="1">
                <a:off x="1052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1181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 flipV="1">
                <a:off x="1309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436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 flipV="1">
                <a:off x="1565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693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1820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 flipV="1">
                <a:off x="1949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V="1">
                <a:off x="2077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2206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2335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2462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2590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2719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2846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2975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3103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3230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3360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3489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3616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3745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38718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40006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 flipV="1">
                <a:off x="41292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V="1">
                <a:off x="4255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4386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4514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V="1">
                <a:off x="46418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4770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4898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50259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V="1">
                <a:off x="5154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V="1">
                <a:off x="5283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54100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 flipV="1">
                <a:off x="5540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V="1">
                <a:off x="56674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V="1">
                <a:off x="57960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59245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V="1">
                <a:off x="60516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 flipV="1">
                <a:off x="61801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6308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64357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V="1">
                <a:off x="6564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V="1">
                <a:off x="66945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68216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69501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70772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72057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3342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V="1">
                <a:off x="746136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758988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771840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V="1">
                <a:off x="7846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V="1">
                <a:off x="79754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81043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V="1">
                <a:off x="823104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8359920" y="5769000"/>
                <a:ext cx="0" cy="30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4680000" y="1235160"/>
                <a:ext cx="1440" cy="51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11320" y="5964120"/>
                <a:ext cx="14688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-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244800" y="54529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244800" y="494172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244800" y="44308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244800" y="39196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244800" y="340848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88640" y="28972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88640" y="2386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88640" y="1873080"/>
                <a:ext cx="16992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rot="16200000">
                <a:off x="4381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rot="16200000">
                <a:off x="5666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rot="16200000">
                <a:off x="6937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rot="16200000">
                <a:off x="82224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rot="16200000">
                <a:off x="952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rot="16200000">
                <a:off x="10792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rot="16200000">
                <a:off x="1207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rot="16200000">
                <a:off x="1336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rot="16200000">
                <a:off x="1463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rot="16200000">
                <a:off x="15642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rot="16200000">
                <a:off x="16927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rot="16200000">
                <a:off x="18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rot="16200000">
                <a:off x="19483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rot="16200000">
                <a:off x="2080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rot="16200000">
                <a:off x="2207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rot="16200000">
                <a:off x="23356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rot="16200000">
                <a:off x="2462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rot="16200000">
                <a:off x="2591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rot="16200000">
                <a:off x="27198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rot="16200000">
                <a:off x="2846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rot="16200000">
                <a:off x="29754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rot="16200000">
                <a:off x="3103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rot="16200000">
                <a:off x="3232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rot="16200000">
                <a:off x="3360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rot="16200000">
                <a:off x="3489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rot="16200000">
                <a:off x="3616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rot="16200000">
                <a:off x="37454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rot="16200000">
                <a:off x="38721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rot="16200000">
                <a:off x="40010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rot="16200000">
                <a:off x="41295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rot="16200000">
                <a:off x="42562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rot="16200000">
                <a:off x="44146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rot="16200000">
                <a:off x="45432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rot="16200000">
                <a:off x="467028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rot="16200000">
                <a:off x="4798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rot="16200000">
                <a:off x="49273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rot="16200000">
                <a:off x="50544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rot="16200000">
                <a:off x="51829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rot="16200000">
                <a:off x="531180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rot="16200000">
                <a:off x="5438520" y="5793480"/>
                <a:ext cx="5724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rot="16200000">
                <a:off x="55407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rot="16200000">
                <a:off x="566784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rot="16200000">
                <a:off x="57963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rot="16200000">
                <a:off x="59248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rot="16200000">
                <a:off x="605196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rot="16200000">
                <a:off x="61804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rot="16200000">
                <a:off x="6309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rot="16200000">
                <a:off x="643608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rot="16200000">
                <a:off x="65646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rot="16200000">
                <a:off x="66949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1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rot="16200000">
                <a:off x="682200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rot="16200000">
                <a:off x="6950520" y="58208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rot="16200000">
                <a:off x="70776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rot="16200000">
                <a:off x="72061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3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rot="16200000">
                <a:off x="73346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rot="16200000">
                <a:off x="746172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rot="16200000">
                <a:off x="759024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6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rot="16200000">
                <a:off x="771876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rot="16200000">
                <a:off x="78472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8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rot="16200000">
                <a:off x="79758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29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rot="16200000">
                <a:off x="810468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rot="16200000">
                <a:off x="8231400" y="5819040"/>
                <a:ext cx="1134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4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Arial"/>
                  </a:rPr>
                  <a:t>3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39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6667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952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923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10526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11811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13096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143676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15652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1693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82088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19494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2077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220680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23353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2462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25909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27194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84652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975040" y="5769000"/>
                <a:ext cx="0" cy="18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>
              <a:off x="3103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230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360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89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3616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3745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8718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0006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292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255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514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6418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770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898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0259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154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5283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4100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5540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6674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57960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9245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60516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1801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308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64357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6564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66945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68216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69501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70772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72057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73342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746136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758988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771840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78469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79754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10432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8231040" y="5769000"/>
              <a:ext cx="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392920" y="6029280"/>
              <a:ext cx="5724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337800" y="6029280"/>
              <a:ext cx="11340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111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835992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386240" y="5769000"/>
              <a:ext cx="0" cy="38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459640" y="3981600"/>
              <a:ext cx="755640" cy="160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8496360" y="4030560"/>
              <a:ext cx="61920" cy="604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606520" y="4005360"/>
              <a:ext cx="58752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Arial"/>
                </a:rPr>
                <a:t>01-Hondura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50760" y="895320"/>
              <a:ext cx="4302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96840" y="903240"/>
              <a:ext cx="39384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82760" y="895320"/>
              <a:ext cx="228600" cy="163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531360" y="903240"/>
              <a:ext cx="1911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11120" y="1746360"/>
              <a:ext cx="944640" cy="161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59720" y="1754280"/>
              <a:ext cx="906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Count of Estad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127400" y="6297480"/>
              <a:ext cx="27792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173840" y="6305400"/>
              <a:ext cx="24012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M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05320" y="6297480"/>
              <a:ext cx="235080" cy="1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53200" y="6305400"/>
              <a:ext cx="19728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D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8459640" y="3790800"/>
              <a:ext cx="755640" cy="189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8509320" y="3813120"/>
              <a:ext cx="597960" cy="1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Id-Nomb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5597-1425-462A-AEBE-864A84616D9E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3A84F-179F-470D-A470-98E0D466EF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3" name="" descr=""/>
          <p:cNvPicPr/>
          <p:nvPr/>
        </p:nvPicPr>
        <p:blipFill>
          <a:blip r:embed="rId1"/>
          <a:srcRect l="0" t="0" r="0" b="38535"/>
          <a:stretch/>
        </p:blipFill>
        <p:spPr>
          <a:xfrm>
            <a:off x="0" y="3263760"/>
            <a:ext cx="9144000" cy="3314880"/>
          </a:xfrm>
          <a:prstGeom prst="rect">
            <a:avLst/>
          </a:prstGeom>
          <a:ln w="0">
            <a:noFill/>
          </a:ln>
        </p:spPr>
      </p:pic>
      <p:pic>
        <p:nvPicPr>
          <p:cNvPr id="3024" name="" descr=""/>
          <p:cNvPicPr/>
          <p:nvPr/>
        </p:nvPicPr>
        <p:blipFill>
          <a:blip r:embed="rId2"/>
          <a:stretch/>
        </p:blipFill>
        <p:spPr>
          <a:xfrm>
            <a:off x="0" y="819000"/>
            <a:ext cx="9307440" cy="5718240"/>
          </a:xfrm>
          <a:prstGeom prst="rect">
            <a:avLst/>
          </a:prstGeom>
          <a:ln w="0">
            <a:noFill/>
          </a:ln>
        </p:spPr>
      </p:pic>
      <p:sp>
        <p:nvSpPr>
          <p:cNvPr id="3025" name=""/>
          <p:cNvSpPr/>
          <p:nvPr/>
        </p:nvSpPr>
        <p:spPr>
          <a:xfrm>
            <a:off x="306360" y="154080"/>
            <a:ext cx="69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Reporte por Eventos/Barrera – Sep-O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4CEE-99A4-45F3-AE11-A70429C323CB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26BE6-C5C4-4EA8-ABDC-5D7FAAE273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 Lozano</dc:creator>
  <dc:description/>
  <dc:language>en-US</dc:language>
  <cp:lastModifiedBy>PC</cp:lastModifiedBy>
  <cp:lastPrinted>2002-01-29T16:00:10Z</cp:lastPrinted>
  <dcterms:modified xsi:type="dcterms:W3CDTF">2009-11-11T11:43:36Z</dcterms:modified>
  <cp:revision>1139</cp:revision>
  <dc:subject/>
  <dc:title>Sistema Monitoreo Barreras Automáticas</dc:title>
</cp:coreProperties>
</file>